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72.xml.rels" ContentType="application/vnd.openxmlformats-package.relationships+xml"/>
  <Override PartName="/ppt/notesSlides/notesSlide89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CDF7-CB10-4E11-9E19-3C81565F0A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-ro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-ro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-ro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-ro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-ro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-ro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-ro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-ro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-ro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-ro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65686-DFF1-4807-BBED-826CC9E7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44099-C3BC-4C4D-82A0-5791673E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463A-D670-4CAF-9709-731F31D7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8CEE-66ED-4B39-A5CE-132CCB96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C699-7482-4845-BABE-DF09399B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F466-1ADB-4FC0-8E0A-898F8366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72F2-6768-414D-8864-790593AF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F6FC-1F85-48F8-8D6E-183D1E9F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A502-E790-472B-90C1-AED922D6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C6C7-8EA8-403C-AB5D-C6479AC5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88BB-CA7D-4CAB-90B2-E95FBF28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3C12-DF5F-4272-A31C-97E06F4A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3077-20B2-4D65-A6B1-40C709AE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D076-1385-4740-8C3A-46946A6A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A81A-F776-4209-91F0-4BE5EF0C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77F8-D5BD-4480-BEFF-255798FC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75BC-F51D-4658-A68F-A9CDC5AA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045A-FC3B-4060-8F05-0FAF0934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4D8B-205C-4B98-A91A-F6E9F0FA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EA97-3ED2-4244-996B-CD9F9A0C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C41C-7F37-46C9-933D-B98B99E4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5BE8-26CE-458A-A784-09382CE7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4A19-EFA4-454B-9F8D-EB5A4570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6D44E-0229-4F3E-92EE-146F6D7E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4A8E-3CF9-4353-B52A-59B374472FD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07F2-3ABB-4949-AB99-940D3A9B49F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86.xm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CQFTREE.pdf" TargetMode="Externa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ize Balanced Tre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中山纪念中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高二 陈启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344368722@QQ.c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ze Balanced T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Size Balanced Tree (abbr. SBT)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是一种通过大小来保持平衡的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BST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。它总是满足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对于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SBT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的每一个结点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t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性质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(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s[right[t]]≥s[left[left[t]]], s[right[left[t]]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性质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(b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s[left[t]]≥s[right[right[t]]], s[left[right[t]]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i.e.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每棵子树的大小不小于其兄弟的子树大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5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5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5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5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5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5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5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5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5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ze Balanced T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51051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s[R] ≥ s[A] , s[B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s[L] ≥ s[C] , s[D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14479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2819520"/>
            <a:ext cx="6858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2819520"/>
            <a:ext cx="6858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40384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1" idx="3"/>
            <a:endCxn id="173" idx="0"/>
          </p:cNvCxnSpPr>
          <p:nvPr/>
        </p:nvCxnSpPr>
        <p:spPr>
          <a:xfrm flipH="1">
            <a:off x="2514240" y="335268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3581280" y="40384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1" idx="5"/>
            <a:endCxn id="176" idx="0"/>
          </p:cNvCxnSpPr>
          <p:nvPr/>
        </p:nvCxnSpPr>
        <p:spPr>
          <a:xfrm>
            <a:off x="3557160" y="3352680"/>
            <a:ext cx="40572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78" name=""/>
          <p:cNvCxnSpPr>
            <a:stCxn id="170" idx="3"/>
            <a:endCxn id="171" idx="0"/>
          </p:cNvCxnSpPr>
          <p:nvPr/>
        </p:nvCxnSpPr>
        <p:spPr>
          <a:xfrm flipH="1">
            <a:off x="3314160" y="198072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79" name=""/>
          <p:cNvCxnSpPr>
            <a:stCxn id="170" idx="5"/>
            <a:endCxn id="172" idx="0"/>
          </p:cNvCxnSpPr>
          <p:nvPr/>
        </p:nvCxnSpPr>
        <p:spPr>
          <a:xfrm>
            <a:off x="4776840" y="198072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80" name=""/>
          <p:cNvCxnSpPr>
            <a:stCxn id="176" idx="5"/>
            <a:endCxn id="176" idx="5"/>
          </p:cNvCxnSpPr>
          <p:nvPr/>
        </p:nvCxnSpPr>
        <p:spPr>
          <a:xfrm>
            <a:off x="4165200" y="434304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6019920" y="40384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40384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82" idx="0"/>
            <a:endCxn id="172" idx="3"/>
          </p:cNvCxnSpPr>
          <p:nvPr/>
        </p:nvCxnSpPr>
        <p:spPr>
          <a:xfrm flipV="1">
            <a:off x="4952880" y="335232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84" name=""/>
          <p:cNvCxnSpPr>
            <a:stCxn id="172" idx="5"/>
            <a:endCxn id="181" idx="0"/>
          </p:cNvCxnSpPr>
          <p:nvPr/>
        </p:nvCxnSpPr>
        <p:spPr>
          <a:xfrm>
            <a:off x="5919840" y="335268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92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193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194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96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197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198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00" dur="5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01" dur="5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02" dur="5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04" dur="500" autoRev="1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05" dur="500" autoRev="1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06" dur="500" autoRev="1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10" dur="500" autoRev="1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11" dur="500" autoRev="1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14" dur="50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15" dur="50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16" dur="50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18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19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20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22" dur="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23" dur="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24" dur="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ze Balanced T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r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插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le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删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查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an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lec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找第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前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c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后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当我们插入或删除一个结点后，ＳＢＴ的大小就发生了改变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这种改变有可能导致性质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(a)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或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(b)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被破坏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这时，我们需要修复这棵树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095560" y="2822400"/>
            <a:ext cx="4952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Maintain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39306E-006 L 0 -0.3667 E">
                                      <p:cBhvr>
                                        <p:cTn id="269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Ｍ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aintain (T)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用于修复以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为根的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SBT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调用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Maintain (T)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的前提条件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的子树都已经是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SBT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由于性质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(a)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(b)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是对称的，下面仅对性质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(a) 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被破坏的情况进行分析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1: s[Lef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zh-CN" sz="5400" spc="-1" strike="noStrike">
                <a:solidFill>
                  <a:srgbClr val="ffcc00"/>
                </a:solidFill>
                <a:latin typeface="Garamond"/>
              </a:rPr>
              <a:t>S[A]&gt;S[R]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22096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35812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35812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50292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7" idx="3"/>
            <a:endCxn id="199" idx="0"/>
          </p:cNvCxnSpPr>
          <p:nvPr/>
        </p:nvCxnSpPr>
        <p:spPr>
          <a:xfrm flipH="1">
            <a:off x="4571640" y="411480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563868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7" idx="5"/>
            <a:endCxn id="202" idx="0"/>
          </p:cNvCxnSpPr>
          <p:nvPr/>
        </p:nvCxnSpPr>
        <p:spPr>
          <a:xfrm>
            <a:off x="5614560" y="4114800"/>
            <a:ext cx="40572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4" name=""/>
          <p:cNvCxnSpPr>
            <a:stCxn id="196" idx="3"/>
            <a:endCxn id="197" idx="0"/>
          </p:cNvCxnSpPr>
          <p:nvPr/>
        </p:nvCxnSpPr>
        <p:spPr>
          <a:xfrm flipH="1">
            <a:off x="5371560" y="274284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5" name=""/>
          <p:cNvCxnSpPr>
            <a:stCxn id="196" idx="5"/>
            <a:endCxn id="198" idx="0"/>
          </p:cNvCxnSpPr>
          <p:nvPr/>
        </p:nvCxnSpPr>
        <p:spPr>
          <a:xfrm>
            <a:off x="6834240" y="274284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6" name=""/>
          <p:cNvCxnSpPr>
            <a:stCxn id="202" idx="5"/>
            <a:endCxn id="202" idx="5"/>
          </p:cNvCxnSpPr>
          <p:nvPr/>
        </p:nvCxnSpPr>
        <p:spPr>
          <a:xfrm>
            <a:off x="6222600" y="51051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80773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8" idx="0"/>
            <a:endCxn id="198" idx="3"/>
          </p:cNvCxnSpPr>
          <p:nvPr/>
        </p:nvCxnSpPr>
        <p:spPr>
          <a:xfrm flipV="1">
            <a:off x="7010280" y="411444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10" name=""/>
          <p:cNvCxnSpPr>
            <a:stCxn id="198" idx="5"/>
            <a:endCxn id="207" idx="0"/>
          </p:cNvCxnSpPr>
          <p:nvPr/>
        </p:nvCxnSpPr>
        <p:spPr>
          <a:xfrm>
            <a:off x="7977240" y="411480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autoRev="1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92" dur="500" autoRev="1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93" dur="500" autoRev="1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5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96" dur="5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97" dur="5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5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300" dur="5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301" dur="5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1: s[Lef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Right-Rotate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2096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35812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35812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50292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214" idx="3"/>
            <a:endCxn id="216" idx="0"/>
          </p:cNvCxnSpPr>
          <p:nvPr/>
        </p:nvCxnSpPr>
        <p:spPr>
          <a:xfrm flipH="1">
            <a:off x="4571640" y="411480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563868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214" idx="5"/>
            <a:endCxn id="219" idx="0"/>
          </p:cNvCxnSpPr>
          <p:nvPr/>
        </p:nvCxnSpPr>
        <p:spPr>
          <a:xfrm>
            <a:off x="5614560" y="4114800"/>
            <a:ext cx="40572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21" name=""/>
          <p:cNvCxnSpPr>
            <a:stCxn id="213" idx="3"/>
            <a:endCxn id="214" idx="0"/>
          </p:cNvCxnSpPr>
          <p:nvPr/>
        </p:nvCxnSpPr>
        <p:spPr>
          <a:xfrm flipH="1">
            <a:off x="5371560" y="274284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22" name=""/>
          <p:cNvCxnSpPr>
            <a:stCxn id="213" idx="5"/>
            <a:endCxn id="215" idx="0"/>
          </p:cNvCxnSpPr>
          <p:nvPr/>
        </p:nvCxnSpPr>
        <p:spPr>
          <a:xfrm>
            <a:off x="6834240" y="274284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23" name=""/>
          <p:cNvCxnSpPr>
            <a:stCxn id="219" idx="5"/>
            <a:endCxn id="219" idx="5"/>
          </p:cNvCxnSpPr>
          <p:nvPr/>
        </p:nvCxnSpPr>
        <p:spPr>
          <a:xfrm>
            <a:off x="6222600" y="51051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80773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294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5" idx="0"/>
            <a:endCxn id="215" idx="3"/>
          </p:cNvCxnSpPr>
          <p:nvPr/>
        </p:nvCxnSpPr>
        <p:spPr>
          <a:xfrm flipV="1">
            <a:off x="7010280" y="411444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27" name=""/>
          <p:cNvCxnSpPr>
            <a:stCxn id="215" idx="5"/>
            <a:endCxn id="224" idx="0"/>
          </p:cNvCxnSpPr>
          <p:nvPr/>
        </p:nvCxnSpPr>
        <p:spPr>
          <a:xfrm>
            <a:off x="7977240" y="411480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1: s[Lef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Right-Rotate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22096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35812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35812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50292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1" idx="3"/>
            <a:endCxn id="233" idx="0"/>
          </p:cNvCxnSpPr>
          <p:nvPr/>
        </p:nvCxnSpPr>
        <p:spPr>
          <a:xfrm flipH="1">
            <a:off x="4571640" y="411480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563868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0" idx="5"/>
            <a:endCxn id="232" idx="0"/>
          </p:cNvCxnSpPr>
          <p:nvPr/>
        </p:nvCxnSpPr>
        <p:spPr>
          <a:xfrm>
            <a:off x="6834240" y="274284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36" idx="5"/>
            <a:endCxn id="236" idx="5"/>
          </p:cNvCxnSpPr>
          <p:nvPr/>
        </p:nvCxnSpPr>
        <p:spPr>
          <a:xfrm>
            <a:off x="6222600" y="51051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80773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294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40" idx="0"/>
            <a:endCxn id="232" idx="3"/>
          </p:cNvCxnSpPr>
          <p:nvPr/>
        </p:nvCxnSpPr>
        <p:spPr>
          <a:xfrm flipV="1">
            <a:off x="7010280" y="411444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2" name=""/>
          <p:cNvCxnSpPr>
            <a:stCxn id="232" idx="5"/>
            <a:endCxn id="239" idx="0"/>
          </p:cNvCxnSpPr>
          <p:nvPr/>
        </p:nvCxnSpPr>
        <p:spPr>
          <a:xfrm>
            <a:off x="7977240" y="411480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327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329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33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333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335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337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339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34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1: s[Lef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Right-Rotate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35812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35812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49528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64008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0" name=""/>
          <p:cNvCxnSpPr>
            <a:stCxn id="246" idx="3"/>
            <a:endCxn id="248" idx="0"/>
          </p:cNvCxnSpPr>
          <p:nvPr/>
        </p:nvCxnSpPr>
        <p:spPr>
          <a:xfrm flipH="1">
            <a:off x="4571640" y="411480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563868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5"/>
            <a:endCxn id="247" idx="0"/>
          </p:cNvCxnSpPr>
          <p:nvPr/>
        </p:nvCxnSpPr>
        <p:spPr>
          <a:xfrm>
            <a:off x="6834240" y="411444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53" name=""/>
          <p:cNvCxnSpPr/>
          <p:nvPr/>
        </p:nvCxnSpPr>
        <p:spPr>
          <a:xfrm>
            <a:off x="6210000" y="64767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8077320" y="61722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61722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255" idx="0"/>
            <a:endCxn id="247" idx="3"/>
          </p:cNvCxnSpPr>
          <p:nvPr/>
        </p:nvCxnSpPr>
        <p:spPr>
          <a:xfrm flipV="1">
            <a:off x="7010280" y="548604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57" name=""/>
          <p:cNvCxnSpPr>
            <a:stCxn id="247" idx="5"/>
            <a:endCxn id="254" idx="0"/>
          </p:cNvCxnSpPr>
          <p:nvPr/>
        </p:nvCxnSpPr>
        <p:spPr>
          <a:xfrm>
            <a:off x="7977240" y="548640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757 E">
                                      <p:cBhvr>
                                        <p:cTn id="347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757 E">
                                      <p:cBhvr>
                                        <p:cTn id="349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757 E">
                                      <p:cBhvr>
                                        <p:cTn id="351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总揽全文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BST &amp; Rotations :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预备知识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Size Balanced Tree :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定义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&amp;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功能介绍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Maintain : 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核心操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Analysis :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时间复杂度分析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Advantage :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七大优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探索历程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感性与理性中螺旋前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1: s[Lef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Right-Rotate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"/>
          <p:cNvSpPr/>
          <p:nvPr/>
        </p:nvSpPr>
        <p:spPr>
          <a:xfrm>
            <a:off x="6248520" y="35812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29200" y="23623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91520" y="49528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35812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64008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61" idx="3"/>
            <a:endCxn id="263" idx="0"/>
          </p:cNvCxnSpPr>
          <p:nvPr/>
        </p:nvCxnSpPr>
        <p:spPr>
          <a:xfrm flipH="1">
            <a:off x="4571640" y="289548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63868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0" idx="5"/>
            <a:endCxn id="262" idx="0"/>
          </p:cNvCxnSpPr>
          <p:nvPr/>
        </p:nvCxnSpPr>
        <p:spPr>
          <a:xfrm>
            <a:off x="6834240" y="411444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8" name=""/>
          <p:cNvCxnSpPr/>
          <p:nvPr/>
        </p:nvCxnSpPr>
        <p:spPr>
          <a:xfrm>
            <a:off x="6210000" y="64767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9" name=""/>
          <p:cNvSpPr/>
          <p:nvPr/>
        </p:nvSpPr>
        <p:spPr>
          <a:xfrm>
            <a:off x="8077320" y="61722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61722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0"/>
            <a:endCxn id="262" idx="3"/>
          </p:cNvCxnSpPr>
          <p:nvPr/>
        </p:nvCxnSpPr>
        <p:spPr>
          <a:xfrm flipV="1">
            <a:off x="7010280" y="548604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2" name=""/>
          <p:cNvCxnSpPr>
            <a:stCxn id="262" idx="5"/>
            <a:endCxn id="269" idx="0"/>
          </p:cNvCxnSpPr>
          <p:nvPr/>
        </p:nvCxnSpPr>
        <p:spPr>
          <a:xfrm>
            <a:off x="7977240" y="548640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3" name=""/>
          <p:cNvCxnSpPr>
            <a:stCxn id="261" idx="5"/>
            <a:endCxn id="260" idx="0"/>
          </p:cNvCxnSpPr>
          <p:nvPr/>
        </p:nvCxnSpPr>
        <p:spPr>
          <a:xfrm>
            <a:off x="5614920" y="2895480"/>
            <a:ext cx="97704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4" name=""/>
          <p:cNvCxnSpPr>
            <a:stCxn id="266" idx="0"/>
            <a:endCxn id="260" idx="3"/>
          </p:cNvCxnSpPr>
          <p:nvPr/>
        </p:nvCxnSpPr>
        <p:spPr>
          <a:xfrm flipV="1">
            <a:off x="6019920" y="4114440"/>
            <a:ext cx="32904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1: s[Lef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Right-Rotate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Maintain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"/>
          <p:cNvSpPr/>
          <p:nvPr/>
        </p:nvSpPr>
        <p:spPr>
          <a:xfrm>
            <a:off x="6248520" y="35812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23623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91520" y="49528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35812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78" idx="3"/>
            <a:endCxn id="280" idx="0"/>
          </p:cNvCxnSpPr>
          <p:nvPr/>
        </p:nvCxnSpPr>
        <p:spPr>
          <a:xfrm flipH="1">
            <a:off x="4571640" y="289548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563868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3" name=""/>
          <p:cNvCxnSpPr>
            <a:stCxn id="277" idx="5"/>
            <a:endCxn id="279" idx="0"/>
          </p:cNvCxnSpPr>
          <p:nvPr/>
        </p:nvCxnSpPr>
        <p:spPr>
          <a:xfrm>
            <a:off x="6834240" y="411444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"/>
          <p:cNvCxnSpPr/>
          <p:nvPr/>
        </p:nvCxnSpPr>
        <p:spPr>
          <a:xfrm>
            <a:off x="6210000" y="64767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"/>
          <p:cNvSpPr/>
          <p:nvPr/>
        </p:nvSpPr>
        <p:spPr>
          <a:xfrm>
            <a:off x="8077320" y="61722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29400" y="61722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0"/>
            <a:endCxn id="279" idx="3"/>
          </p:cNvCxnSpPr>
          <p:nvPr/>
        </p:nvCxnSpPr>
        <p:spPr>
          <a:xfrm flipV="1">
            <a:off x="7010280" y="548604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8" name=""/>
          <p:cNvCxnSpPr>
            <a:stCxn id="279" idx="5"/>
            <a:endCxn id="285" idx="0"/>
          </p:cNvCxnSpPr>
          <p:nvPr/>
        </p:nvCxnSpPr>
        <p:spPr>
          <a:xfrm>
            <a:off x="7977240" y="548640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9" name=""/>
          <p:cNvCxnSpPr>
            <a:stCxn id="278" idx="5"/>
            <a:endCxn id="277" idx="0"/>
          </p:cNvCxnSpPr>
          <p:nvPr/>
        </p:nvCxnSpPr>
        <p:spPr>
          <a:xfrm>
            <a:off x="5614920" y="2895480"/>
            <a:ext cx="97704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90" name=""/>
          <p:cNvCxnSpPr>
            <a:stCxn id="282" idx="0"/>
            <a:endCxn id="277" idx="3"/>
          </p:cNvCxnSpPr>
          <p:nvPr/>
        </p:nvCxnSpPr>
        <p:spPr>
          <a:xfrm flipV="1">
            <a:off x="6019920" y="4114440"/>
            <a:ext cx="32904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6172200" y="35812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2" name=""/>
          <p:cNvCxnSpPr>
            <a:stCxn id="278" idx="5"/>
            <a:endCxn id="291" idx="0"/>
          </p:cNvCxnSpPr>
          <p:nvPr/>
        </p:nvCxnSpPr>
        <p:spPr>
          <a:xfrm>
            <a:off x="5614920" y="2895480"/>
            <a:ext cx="9388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1: s[Lef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Right-Rotate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Maintain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Maintain (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23623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5812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5" idx="3"/>
            <a:endCxn id="296" idx="0"/>
          </p:cNvCxnSpPr>
          <p:nvPr/>
        </p:nvCxnSpPr>
        <p:spPr>
          <a:xfrm flipH="1">
            <a:off x="4571640" y="289548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98" name=""/>
          <p:cNvSpPr/>
          <p:nvPr/>
        </p:nvSpPr>
        <p:spPr>
          <a:xfrm>
            <a:off x="6172200" y="35812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9" name=""/>
          <p:cNvCxnSpPr>
            <a:endCxn id="298" idx="0"/>
          </p:cNvCxnSpPr>
          <p:nvPr/>
        </p:nvCxnSpPr>
        <p:spPr>
          <a:xfrm>
            <a:off x="5614920" y="2895480"/>
            <a:ext cx="9388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5029200" y="23623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4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2: s[righ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zh-CN" sz="5400" spc="-1" strike="noStrike">
                <a:solidFill>
                  <a:srgbClr val="ffcc00"/>
                </a:solidFill>
                <a:latin typeface="Garamond"/>
              </a:rPr>
              <a:t>s[B]&gt;s[R]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2096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35812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91520" y="35812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50292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4" idx="3"/>
            <a:endCxn id="306" idx="0"/>
          </p:cNvCxnSpPr>
          <p:nvPr/>
        </p:nvCxnSpPr>
        <p:spPr>
          <a:xfrm flipH="1">
            <a:off x="4571640" y="411480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303" idx="3"/>
            <a:endCxn id="304" idx="0"/>
          </p:cNvCxnSpPr>
          <p:nvPr/>
        </p:nvCxnSpPr>
        <p:spPr>
          <a:xfrm flipH="1">
            <a:off x="5371560" y="274284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303" idx="5"/>
            <a:endCxn id="305" idx="0"/>
          </p:cNvCxnSpPr>
          <p:nvPr/>
        </p:nvCxnSpPr>
        <p:spPr>
          <a:xfrm>
            <a:off x="6834240" y="274284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1" name=""/>
          <p:cNvCxnSpPr/>
          <p:nvPr/>
        </p:nvCxnSpPr>
        <p:spPr>
          <a:xfrm>
            <a:off x="6286320" y="51051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80773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0"/>
            <a:endCxn id="305" idx="3"/>
          </p:cNvCxnSpPr>
          <p:nvPr/>
        </p:nvCxnSpPr>
        <p:spPr>
          <a:xfrm flipV="1">
            <a:off x="7010280" y="411444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5" name=""/>
          <p:cNvCxnSpPr>
            <a:stCxn id="305" idx="5"/>
            <a:endCxn id="312" idx="0"/>
          </p:cNvCxnSpPr>
          <p:nvPr/>
        </p:nvCxnSpPr>
        <p:spPr>
          <a:xfrm>
            <a:off x="7977240" y="411480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715000" y="4800600"/>
            <a:ext cx="6858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7" name=""/>
          <p:cNvCxnSpPr>
            <a:stCxn id="304" idx="5"/>
            <a:endCxn id="316" idx="0"/>
          </p:cNvCxnSpPr>
          <p:nvPr/>
        </p:nvCxnSpPr>
        <p:spPr>
          <a:xfrm>
            <a:off x="5614560" y="4114800"/>
            <a:ext cx="4438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4876920" y="60199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9" name=""/>
          <p:cNvCxnSpPr>
            <a:endCxn id="318" idx="0"/>
          </p:cNvCxnSpPr>
          <p:nvPr/>
        </p:nvCxnSpPr>
        <p:spPr>
          <a:xfrm flipH="1">
            <a:off x="5257440" y="5308560"/>
            <a:ext cx="558000" cy="699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20" name=""/>
          <p:cNvSpPr/>
          <p:nvPr/>
        </p:nvSpPr>
        <p:spPr>
          <a:xfrm>
            <a:off x="6424560" y="60199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endCxn id="320" idx="0"/>
          </p:cNvCxnSpPr>
          <p:nvPr/>
        </p:nvCxnSpPr>
        <p:spPr>
          <a:xfrm>
            <a:off x="6324480" y="5308560"/>
            <a:ext cx="481680" cy="699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75" dur="500" autoRev="1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476" dur="500" autoRev="1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477" dur="500" autoRev="1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79" dur="500" autoRev="1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480" dur="500" autoRev="1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481" dur="500" autoRev="1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83" dur="500" autoRev="1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484" dur="500" autoRev="1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485" dur="500" autoRev="1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2: s[righ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Left-Rotate (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"/>
          <p:cNvSpPr/>
          <p:nvPr/>
        </p:nvSpPr>
        <p:spPr>
          <a:xfrm>
            <a:off x="6248520" y="22096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29200" y="35812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391520" y="35812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911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50292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5" idx="3"/>
            <a:endCxn id="327" idx="0"/>
          </p:cNvCxnSpPr>
          <p:nvPr/>
        </p:nvCxnSpPr>
        <p:spPr>
          <a:xfrm flipH="1">
            <a:off x="4571640" y="411480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0" name=""/>
          <p:cNvCxnSpPr>
            <a:stCxn id="324" idx="3"/>
            <a:endCxn id="325" idx="0"/>
          </p:cNvCxnSpPr>
          <p:nvPr/>
        </p:nvCxnSpPr>
        <p:spPr>
          <a:xfrm flipH="1">
            <a:off x="5371560" y="274284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1" name=""/>
          <p:cNvCxnSpPr>
            <a:stCxn id="324" idx="5"/>
            <a:endCxn id="326" idx="0"/>
          </p:cNvCxnSpPr>
          <p:nvPr/>
        </p:nvCxnSpPr>
        <p:spPr>
          <a:xfrm>
            <a:off x="6834240" y="274284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2" name=""/>
          <p:cNvCxnSpPr/>
          <p:nvPr/>
        </p:nvCxnSpPr>
        <p:spPr>
          <a:xfrm>
            <a:off x="6286320" y="51051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773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6294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34" idx="0"/>
            <a:endCxn id="326" idx="3"/>
          </p:cNvCxnSpPr>
          <p:nvPr/>
        </p:nvCxnSpPr>
        <p:spPr>
          <a:xfrm flipV="1">
            <a:off x="7010280" y="411444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6" name=""/>
          <p:cNvCxnSpPr>
            <a:stCxn id="326" idx="5"/>
            <a:endCxn id="333" idx="0"/>
          </p:cNvCxnSpPr>
          <p:nvPr/>
        </p:nvCxnSpPr>
        <p:spPr>
          <a:xfrm>
            <a:off x="7977240" y="411480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5715000" y="4800600"/>
            <a:ext cx="6858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"/>
          <p:cNvCxnSpPr>
            <a:stCxn id="325" idx="5"/>
            <a:endCxn id="337" idx="0"/>
          </p:cNvCxnSpPr>
          <p:nvPr/>
        </p:nvCxnSpPr>
        <p:spPr>
          <a:xfrm>
            <a:off x="5614560" y="4114800"/>
            <a:ext cx="4438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4876920" y="60199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0" name=""/>
          <p:cNvCxnSpPr>
            <a:endCxn id="339" idx="0"/>
          </p:cNvCxnSpPr>
          <p:nvPr/>
        </p:nvCxnSpPr>
        <p:spPr>
          <a:xfrm flipH="1">
            <a:off x="5257440" y="5308560"/>
            <a:ext cx="558000" cy="699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6424560" y="60199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"/>
          <p:cNvCxnSpPr>
            <a:endCxn id="341" idx="0"/>
          </p:cNvCxnSpPr>
          <p:nvPr/>
        </p:nvCxnSpPr>
        <p:spPr>
          <a:xfrm>
            <a:off x="6324480" y="5308560"/>
            <a:ext cx="481680" cy="699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9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2: s[righ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Left-Rotate (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"/>
          <p:cNvSpPr/>
          <p:nvPr/>
        </p:nvSpPr>
        <p:spPr>
          <a:xfrm>
            <a:off x="6248520" y="22096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29200" y="35812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91520" y="35812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1911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477120" y="50292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0" name=""/>
          <p:cNvCxnSpPr>
            <a:stCxn id="346" idx="3"/>
            <a:endCxn id="348" idx="0"/>
          </p:cNvCxnSpPr>
          <p:nvPr/>
        </p:nvCxnSpPr>
        <p:spPr>
          <a:xfrm flipH="1">
            <a:off x="4571640" y="411480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51" name=""/>
          <p:cNvCxnSpPr>
            <a:stCxn id="345" idx="3"/>
            <a:endCxn id="346" idx="0"/>
          </p:cNvCxnSpPr>
          <p:nvPr/>
        </p:nvCxnSpPr>
        <p:spPr>
          <a:xfrm flipH="1">
            <a:off x="5371560" y="274284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52" name=""/>
          <p:cNvCxnSpPr>
            <a:stCxn id="345" idx="5"/>
            <a:endCxn id="347" idx="0"/>
          </p:cNvCxnSpPr>
          <p:nvPr/>
        </p:nvCxnSpPr>
        <p:spPr>
          <a:xfrm>
            <a:off x="6834240" y="274284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53" name=""/>
          <p:cNvCxnSpPr/>
          <p:nvPr/>
        </p:nvCxnSpPr>
        <p:spPr>
          <a:xfrm>
            <a:off x="6286320" y="51051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54" name=""/>
          <p:cNvSpPr/>
          <p:nvPr/>
        </p:nvSpPr>
        <p:spPr>
          <a:xfrm>
            <a:off x="80773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294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6" name=""/>
          <p:cNvCxnSpPr>
            <a:stCxn id="355" idx="0"/>
            <a:endCxn id="347" idx="3"/>
          </p:cNvCxnSpPr>
          <p:nvPr/>
        </p:nvCxnSpPr>
        <p:spPr>
          <a:xfrm flipV="1">
            <a:off x="7010280" y="411444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57" name=""/>
          <p:cNvCxnSpPr>
            <a:stCxn id="347" idx="5"/>
            <a:endCxn id="354" idx="0"/>
          </p:cNvCxnSpPr>
          <p:nvPr/>
        </p:nvCxnSpPr>
        <p:spPr>
          <a:xfrm>
            <a:off x="7977240" y="411480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58" name=""/>
          <p:cNvSpPr/>
          <p:nvPr/>
        </p:nvSpPr>
        <p:spPr>
          <a:xfrm>
            <a:off x="5715000" y="4800600"/>
            <a:ext cx="6858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60199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24560" y="60199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1" name=""/>
          <p:cNvCxnSpPr>
            <a:endCxn id="360" idx="0"/>
          </p:cNvCxnSpPr>
          <p:nvPr/>
        </p:nvCxnSpPr>
        <p:spPr>
          <a:xfrm>
            <a:off x="6324480" y="5308560"/>
            <a:ext cx="481680" cy="699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333 0.17757 E">
                                      <p:cBhvr>
                                        <p:cTn id="511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333 0.17757 E">
                                      <p:cBhvr>
                                        <p:cTn id="513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333 0.17757 E">
                                      <p:cBhvr>
                                        <p:cTn id="515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2: s[righ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Left-Rotate (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22096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8006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1520" y="35812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60199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77120" y="50292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65" idx="3"/>
            <a:endCxn id="367" idx="0"/>
          </p:cNvCxnSpPr>
          <p:nvPr/>
        </p:nvCxnSpPr>
        <p:spPr>
          <a:xfrm flipH="1">
            <a:off x="3809520" y="5333760"/>
            <a:ext cx="55800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0" name=""/>
          <p:cNvCxnSpPr/>
          <p:nvPr/>
        </p:nvCxnSpPr>
        <p:spPr>
          <a:xfrm flipH="1">
            <a:off x="5371560" y="275544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1" name=""/>
          <p:cNvCxnSpPr>
            <a:stCxn id="364" idx="5"/>
            <a:endCxn id="366" idx="0"/>
          </p:cNvCxnSpPr>
          <p:nvPr/>
        </p:nvCxnSpPr>
        <p:spPr>
          <a:xfrm>
            <a:off x="6834240" y="274284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2" name=""/>
          <p:cNvCxnSpPr/>
          <p:nvPr/>
        </p:nvCxnSpPr>
        <p:spPr>
          <a:xfrm>
            <a:off x="6286320" y="51051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80773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294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5" name=""/>
          <p:cNvCxnSpPr>
            <a:stCxn id="374" idx="0"/>
            <a:endCxn id="366" idx="3"/>
          </p:cNvCxnSpPr>
          <p:nvPr/>
        </p:nvCxnSpPr>
        <p:spPr>
          <a:xfrm flipV="1">
            <a:off x="7010280" y="411444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6" name=""/>
          <p:cNvCxnSpPr>
            <a:stCxn id="366" idx="5"/>
            <a:endCxn id="373" idx="0"/>
          </p:cNvCxnSpPr>
          <p:nvPr/>
        </p:nvCxnSpPr>
        <p:spPr>
          <a:xfrm>
            <a:off x="7977240" y="411480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5715000" y="4800600"/>
            <a:ext cx="6858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76920" y="60199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24560" y="60199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"/>
          <p:cNvCxnSpPr>
            <a:endCxn id="379" idx="0"/>
          </p:cNvCxnSpPr>
          <p:nvPr/>
        </p:nvCxnSpPr>
        <p:spPr>
          <a:xfrm>
            <a:off x="6324480" y="5308560"/>
            <a:ext cx="481680" cy="699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-0.17757 E">
                                      <p:cBhvr>
                                        <p:cTn id="521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-0.17757 E">
                                      <p:cBhvr>
                                        <p:cTn id="523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-0.17757 E">
                                      <p:cBhvr>
                                        <p:cTn id="525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2: s[righ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Left-Rotate (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6248520" y="22096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48006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391520" y="35812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60199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50292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8" name=""/>
          <p:cNvCxnSpPr>
            <a:stCxn id="384" idx="3"/>
            <a:endCxn id="386" idx="0"/>
          </p:cNvCxnSpPr>
          <p:nvPr/>
        </p:nvCxnSpPr>
        <p:spPr>
          <a:xfrm flipH="1">
            <a:off x="3809520" y="5333760"/>
            <a:ext cx="55800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89" name=""/>
          <p:cNvCxnSpPr/>
          <p:nvPr/>
        </p:nvCxnSpPr>
        <p:spPr>
          <a:xfrm flipH="1">
            <a:off x="5371560" y="275544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90" name=""/>
          <p:cNvCxnSpPr>
            <a:stCxn id="383" idx="5"/>
            <a:endCxn id="385" idx="0"/>
          </p:cNvCxnSpPr>
          <p:nvPr/>
        </p:nvCxnSpPr>
        <p:spPr>
          <a:xfrm>
            <a:off x="6834240" y="274284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91" name=""/>
          <p:cNvCxnSpPr/>
          <p:nvPr/>
        </p:nvCxnSpPr>
        <p:spPr>
          <a:xfrm>
            <a:off x="6286320" y="51051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80773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294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93" idx="0"/>
            <a:endCxn id="385" idx="3"/>
          </p:cNvCxnSpPr>
          <p:nvPr/>
        </p:nvCxnSpPr>
        <p:spPr>
          <a:xfrm flipV="1">
            <a:off x="7010280" y="411444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95" name=""/>
          <p:cNvCxnSpPr>
            <a:stCxn id="385" idx="5"/>
            <a:endCxn id="392" idx="0"/>
          </p:cNvCxnSpPr>
          <p:nvPr/>
        </p:nvCxnSpPr>
        <p:spPr>
          <a:xfrm>
            <a:off x="7977240" y="411480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96" name=""/>
          <p:cNvSpPr/>
          <p:nvPr/>
        </p:nvSpPr>
        <p:spPr>
          <a:xfrm>
            <a:off x="5005440" y="35812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60199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150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6" idx="5"/>
            <a:endCxn id="398" idx="0"/>
          </p:cNvCxnSpPr>
          <p:nvPr/>
        </p:nvCxnSpPr>
        <p:spPr>
          <a:xfrm>
            <a:off x="5591160" y="4114800"/>
            <a:ext cx="50544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0" name=""/>
          <p:cNvCxnSpPr>
            <a:stCxn id="384" idx="0"/>
            <a:endCxn id="396" idx="3"/>
          </p:cNvCxnSpPr>
          <p:nvPr/>
        </p:nvCxnSpPr>
        <p:spPr>
          <a:xfrm flipV="1">
            <a:off x="4610160" y="4114440"/>
            <a:ext cx="4960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1" name=""/>
          <p:cNvCxnSpPr>
            <a:stCxn id="384" idx="5"/>
            <a:endCxn id="397" idx="0"/>
          </p:cNvCxnSpPr>
          <p:nvPr/>
        </p:nvCxnSpPr>
        <p:spPr>
          <a:xfrm>
            <a:off x="4853160" y="5333760"/>
            <a:ext cx="40536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2: s[righ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Left-Rotate (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Right-Rotate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"/>
          <p:cNvSpPr/>
          <p:nvPr/>
        </p:nvSpPr>
        <p:spPr>
          <a:xfrm>
            <a:off x="6248520" y="22096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67080" y="48006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91520" y="35812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29000" y="60199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50292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9" name=""/>
          <p:cNvCxnSpPr>
            <a:stCxn id="405" idx="3"/>
            <a:endCxn id="407" idx="0"/>
          </p:cNvCxnSpPr>
          <p:nvPr/>
        </p:nvCxnSpPr>
        <p:spPr>
          <a:xfrm flipH="1">
            <a:off x="3809520" y="5333760"/>
            <a:ext cx="55800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10" name=""/>
          <p:cNvCxnSpPr/>
          <p:nvPr/>
        </p:nvCxnSpPr>
        <p:spPr>
          <a:xfrm flipH="1">
            <a:off x="5371560" y="275544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11" name=""/>
          <p:cNvCxnSpPr>
            <a:stCxn id="404" idx="5"/>
            <a:endCxn id="406" idx="0"/>
          </p:cNvCxnSpPr>
          <p:nvPr/>
        </p:nvCxnSpPr>
        <p:spPr>
          <a:xfrm>
            <a:off x="6834240" y="274284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12" name=""/>
          <p:cNvCxnSpPr/>
          <p:nvPr/>
        </p:nvCxnSpPr>
        <p:spPr>
          <a:xfrm>
            <a:off x="6286320" y="51051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3" name=""/>
          <p:cNvSpPr/>
          <p:nvPr/>
        </p:nvSpPr>
        <p:spPr>
          <a:xfrm>
            <a:off x="80773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6294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"/>
          <p:cNvCxnSpPr>
            <a:stCxn id="414" idx="0"/>
            <a:endCxn id="406" idx="3"/>
          </p:cNvCxnSpPr>
          <p:nvPr/>
        </p:nvCxnSpPr>
        <p:spPr>
          <a:xfrm flipV="1">
            <a:off x="7010280" y="411444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16" name=""/>
          <p:cNvCxnSpPr>
            <a:stCxn id="406" idx="5"/>
            <a:endCxn id="413" idx="0"/>
          </p:cNvCxnSpPr>
          <p:nvPr/>
        </p:nvCxnSpPr>
        <p:spPr>
          <a:xfrm>
            <a:off x="7977240" y="411480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5005440" y="35812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76920" y="60199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0" name=""/>
          <p:cNvCxnSpPr>
            <a:stCxn id="417" idx="5"/>
            <a:endCxn id="419" idx="0"/>
          </p:cNvCxnSpPr>
          <p:nvPr/>
        </p:nvCxnSpPr>
        <p:spPr>
          <a:xfrm>
            <a:off x="5591160" y="4114800"/>
            <a:ext cx="50544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21" name=""/>
          <p:cNvCxnSpPr>
            <a:stCxn id="405" idx="0"/>
            <a:endCxn id="417" idx="3"/>
          </p:cNvCxnSpPr>
          <p:nvPr/>
        </p:nvCxnSpPr>
        <p:spPr>
          <a:xfrm flipV="1">
            <a:off x="4610160" y="4114440"/>
            <a:ext cx="4960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22" name=""/>
          <p:cNvCxnSpPr>
            <a:stCxn id="405" idx="5"/>
            <a:endCxn id="418" idx="0"/>
          </p:cNvCxnSpPr>
          <p:nvPr/>
        </p:nvCxnSpPr>
        <p:spPr>
          <a:xfrm>
            <a:off x="4853160" y="5333760"/>
            <a:ext cx="40536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2: s[righ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Left-Rotate (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Right-Rotate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"/>
          <p:cNvSpPr/>
          <p:nvPr/>
        </p:nvSpPr>
        <p:spPr>
          <a:xfrm>
            <a:off x="6248520" y="22096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267080" y="48006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1520" y="35812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60199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50292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0" name=""/>
          <p:cNvCxnSpPr>
            <a:stCxn id="426" idx="3"/>
            <a:endCxn id="428" idx="0"/>
          </p:cNvCxnSpPr>
          <p:nvPr/>
        </p:nvCxnSpPr>
        <p:spPr>
          <a:xfrm flipH="1">
            <a:off x="3809520" y="5333760"/>
            <a:ext cx="55800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31" name=""/>
          <p:cNvCxnSpPr>
            <a:stCxn id="425" idx="5"/>
            <a:endCxn id="427" idx="0"/>
          </p:cNvCxnSpPr>
          <p:nvPr/>
        </p:nvCxnSpPr>
        <p:spPr>
          <a:xfrm>
            <a:off x="6834240" y="274284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32" name=""/>
          <p:cNvCxnSpPr/>
          <p:nvPr/>
        </p:nvCxnSpPr>
        <p:spPr>
          <a:xfrm>
            <a:off x="6286320" y="51051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8077320" y="480060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5" name=""/>
          <p:cNvCxnSpPr>
            <a:stCxn id="434" idx="0"/>
            <a:endCxn id="427" idx="3"/>
          </p:cNvCxnSpPr>
          <p:nvPr/>
        </p:nvCxnSpPr>
        <p:spPr>
          <a:xfrm flipV="1">
            <a:off x="7010280" y="411444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36" name=""/>
          <p:cNvCxnSpPr>
            <a:stCxn id="427" idx="5"/>
            <a:endCxn id="433" idx="0"/>
          </p:cNvCxnSpPr>
          <p:nvPr/>
        </p:nvCxnSpPr>
        <p:spPr>
          <a:xfrm>
            <a:off x="7977240" y="411480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7" name=""/>
          <p:cNvSpPr/>
          <p:nvPr/>
        </p:nvSpPr>
        <p:spPr>
          <a:xfrm>
            <a:off x="5005440" y="35812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876920" y="60199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7150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0" name=""/>
          <p:cNvCxnSpPr>
            <a:stCxn id="426" idx="0"/>
            <a:endCxn id="437" idx="3"/>
          </p:cNvCxnSpPr>
          <p:nvPr/>
        </p:nvCxnSpPr>
        <p:spPr>
          <a:xfrm flipV="1">
            <a:off x="4610160" y="4114440"/>
            <a:ext cx="4960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41" name=""/>
          <p:cNvCxnSpPr>
            <a:stCxn id="426" idx="5"/>
            <a:endCxn id="438" idx="0"/>
          </p:cNvCxnSpPr>
          <p:nvPr/>
        </p:nvCxnSpPr>
        <p:spPr>
          <a:xfrm>
            <a:off x="4853160" y="5333760"/>
            <a:ext cx="40536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565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56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569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57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573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575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577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579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581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nary Search T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Binary Search Tree (abbr. BST)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是一棵具有以下性质的二叉树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对于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BST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中任意一个结点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(1)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左子树中的关键字不大于它的关键字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(2)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右子树中的关键字不小于它的关键字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2: s[righ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Left-Rotate (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Right-Rotate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"/>
          <p:cNvSpPr/>
          <p:nvPr/>
        </p:nvSpPr>
        <p:spPr>
          <a:xfrm>
            <a:off x="6553080" y="34290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67080" y="48006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96080" y="4800600"/>
            <a:ext cx="6858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429000" y="60199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53080" y="50292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45" idx="3"/>
            <a:endCxn id="447" idx="0"/>
          </p:cNvCxnSpPr>
          <p:nvPr/>
        </p:nvCxnSpPr>
        <p:spPr>
          <a:xfrm flipH="1">
            <a:off x="3809520" y="5333760"/>
            <a:ext cx="55800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50" name=""/>
          <p:cNvCxnSpPr>
            <a:stCxn id="444" idx="5"/>
            <a:endCxn id="446" idx="0"/>
          </p:cNvCxnSpPr>
          <p:nvPr/>
        </p:nvCxnSpPr>
        <p:spPr>
          <a:xfrm>
            <a:off x="7139160" y="396216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51" name=""/>
          <p:cNvCxnSpPr/>
          <p:nvPr/>
        </p:nvCxnSpPr>
        <p:spPr>
          <a:xfrm>
            <a:off x="6362280" y="51051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8381880" y="60199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60199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4" name=""/>
          <p:cNvCxnSpPr>
            <a:stCxn id="453" idx="0"/>
            <a:endCxn id="446" idx="3"/>
          </p:cNvCxnSpPr>
          <p:nvPr/>
        </p:nvCxnSpPr>
        <p:spPr>
          <a:xfrm flipV="1">
            <a:off x="7315200" y="53337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55" name=""/>
          <p:cNvCxnSpPr>
            <a:stCxn id="446" idx="5"/>
            <a:endCxn id="452" idx="0"/>
          </p:cNvCxnSpPr>
          <p:nvPr/>
        </p:nvCxnSpPr>
        <p:spPr>
          <a:xfrm>
            <a:off x="8282160" y="53337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5005440" y="3581280"/>
            <a:ext cx="6858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60199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7150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45" idx="0"/>
            <a:endCxn id="456" idx="3"/>
          </p:cNvCxnSpPr>
          <p:nvPr/>
        </p:nvCxnSpPr>
        <p:spPr>
          <a:xfrm flipV="1">
            <a:off x="4610160" y="4114440"/>
            <a:ext cx="4960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60" name=""/>
          <p:cNvCxnSpPr>
            <a:stCxn id="445" idx="5"/>
            <a:endCxn id="457" idx="0"/>
          </p:cNvCxnSpPr>
          <p:nvPr/>
        </p:nvCxnSpPr>
        <p:spPr>
          <a:xfrm>
            <a:off x="4853160" y="5333760"/>
            <a:ext cx="40536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34 -0.17757 E">
                                      <p:cBhvr>
                                        <p:cTn id="587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34 -0.17757 E">
                                      <p:cBhvr>
                                        <p:cTn id="589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34 -0.17757 E">
                                      <p:cBhvr>
                                        <p:cTn id="591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34 -0.17757 E">
                                      <p:cBhvr>
                                        <p:cTn id="593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34 -0.17757 E">
                                      <p:cBhvr>
                                        <p:cTn id="595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34 -0.17757 E">
                                      <p:cBhvr>
                                        <p:cTn id="597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34 -0.17757 E">
                                      <p:cBhvr>
                                        <p:cTn id="599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2: s[righ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Left-Rotate (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Right-Rotate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34290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191120" y="35812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96080" y="4800600"/>
            <a:ext cx="6858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5268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3080" y="50292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64" idx="3"/>
            <a:endCxn id="466" idx="0"/>
          </p:cNvCxnSpPr>
          <p:nvPr/>
        </p:nvCxnSpPr>
        <p:spPr>
          <a:xfrm flipH="1">
            <a:off x="3733200" y="4114800"/>
            <a:ext cx="55764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69" name=""/>
          <p:cNvCxnSpPr>
            <a:stCxn id="463" idx="5"/>
            <a:endCxn id="465" idx="0"/>
          </p:cNvCxnSpPr>
          <p:nvPr/>
        </p:nvCxnSpPr>
        <p:spPr>
          <a:xfrm>
            <a:off x="7139160" y="396216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70" name=""/>
          <p:cNvCxnSpPr/>
          <p:nvPr/>
        </p:nvCxnSpPr>
        <p:spPr>
          <a:xfrm>
            <a:off x="6362280" y="51051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71" name=""/>
          <p:cNvSpPr/>
          <p:nvPr/>
        </p:nvSpPr>
        <p:spPr>
          <a:xfrm>
            <a:off x="8381880" y="60199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934320" y="60199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3" name=""/>
          <p:cNvCxnSpPr>
            <a:stCxn id="472" idx="0"/>
            <a:endCxn id="465" idx="3"/>
          </p:cNvCxnSpPr>
          <p:nvPr/>
        </p:nvCxnSpPr>
        <p:spPr>
          <a:xfrm flipV="1">
            <a:off x="7315200" y="53337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74" name=""/>
          <p:cNvCxnSpPr>
            <a:stCxn id="465" idx="5"/>
            <a:endCxn id="471" idx="0"/>
          </p:cNvCxnSpPr>
          <p:nvPr/>
        </p:nvCxnSpPr>
        <p:spPr>
          <a:xfrm>
            <a:off x="8282160" y="53337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4929120" y="2362320"/>
            <a:ext cx="6858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006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150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8" name=""/>
          <p:cNvCxnSpPr>
            <a:stCxn id="464" idx="0"/>
            <a:endCxn id="475" idx="3"/>
          </p:cNvCxnSpPr>
          <p:nvPr/>
        </p:nvCxnSpPr>
        <p:spPr>
          <a:xfrm flipV="1">
            <a:off x="4533840" y="2895120"/>
            <a:ext cx="4960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79" name=""/>
          <p:cNvCxnSpPr>
            <a:stCxn id="464" idx="5"/>
            <a:endCxn id="476" idx="0"/>
          </p:cNvCxnSpPr>
          <p:nvPr/>
        </p:nvCxnSpPr>
        <p:spPr>
          <a:xfrm>
            <a:off x="4776840" y="4114800"/>
            <a:ext cx="40536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80" name=""/>
          <p:cNvCxnSpPr>
            <a:stCxn id="475" idx="5"/>
            <a:endCxn id="463" idx="1"/>
          </p:cNvCxnSpPr>
          <p:nvPr/>
        </p:nvCxnSpPr>
        <p:spPr>
          <a:xfrm>
            <a:off x="5514840" y="2895480"/>
            <a:ext cx="1139040" cy="6105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81" name=""/>
          <p:cNvCxnSpPr>
            <a:stCxn id="477" idx="0"/>
            <a:endCxn id="463" idx="3"/>
          </p:cNvCxnSpPr>
          <p:nvPr/>
        </p:nvCxnSpPr>
        <p:spPr>
          <a:xfrm flipV="1">
            <a:off x="6095880" y="3961800"/>
            <a:ext cx="55800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2: s[righ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Left-Rotate (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Right-Rotate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Maintain (L) &amp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      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Maintain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"/>
          <p:cNvSpPr/>
          <p:nvPr/>
        </p:nvSpPr>
        <p:spPr>
          <a:xfrm>
            <a:off x="6553080" y="34290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35812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96080" y="4800600"/>
            <a:ext cx="6858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502920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"/>
          <p:cNvCxnSpPr>
            <a:stCxn id="485" idx="3"/>
            <a:endCxn id="487" idx="0"/>
          </p:cNvCxnSpPr>
          <p:nvPr/>
        </p:nvCxnSpPr>
        <p:spPr>
          <a:xfrm flipH="1">
            <a:off x="3733200" y="4114800"/>
            <a:ext cx="55764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90" name=""/>
          <p:cNvCxnSpPr>
            <a:stCxn id="484" idx="5"/>
            <a:endCxn id="486" idx="0"/>
          </p:cNvCxnSpPr>
          <p:nvPr/>
        </p:nvCxnSpPr>
        <p:spPr>
          <a:xfrm>
            <a:off x="7139160" y="396216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91" name=""/>
          <p:cNvCxnSpPr/>
          <p:nvPr/>
        </p:nvCxnSpPr>
        <p:spPr>
          <a:xfrm>
            <a:off x="6362280" y="510516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92" name=""/>
          <p:cNvSpPr/>
          <p:nvPr/>
        </p:nvSpPr>
        <p:spPr>
          <a:xfrm>
            <a:off x="6934320" y="60199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92" idx="0"/>
            <a:endCxn id="486" idx="3"/>
          </p:cNvCxnSpPr>
          <p:nvPr/>
        </p:nvCxnSpPr>
        <p:spPr>
          <a:xfrm flipV="1">
            <a:off x="7315200" y="53337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94" name=""/>
          <p:cNvCxnSpPr>
            <a:stCxn id="486" idx="5"/>
          </p:cNvCxnSpPr>
          <p:nvPr/>
        </p:nvCxnSpPr>
        <p:spPr>
          <a:xfrm>
            <a:off x="8282160" y="53337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95" name=""/>
          <p:cNvSpPr/>
          <p:nvPr/>
        </p:nvSpPr>
        <p:spPr>
          <a:xfrm>
            <a:off x="4929120" y="2362320"/>
            <a:ext cx="6858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006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48006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8" name=""/>
          <p:cNvCxnSpPr>
            <a:stCxn id="485" idx="0"/>
            <a:endCxn id="495" idx="3"/>
          </p:cNvCxnSpPr>
          <p:nvPr/>
        </p:nvCxnSpPr>
        <p:spPr>
          <a:xfrm flipV="1">
            <a:off x="4533840" y="2895120"/>
            <a:ext cx="4960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99" name=""/>
          <p:cNvCxnSpPr>
            <a:stCxn id="485" idx="5"/>
            <a:endCxn id="496" idx="0"/>
          </p:cNvCxnSpPr>
          <p:nvPr/>
        </p:nvCxnSpPr>
        <p:spPr>
          <a:xfrm>
            <a:off x="4776840" y="4114800"/>
            <a:ext cx="40536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500" name=""/>
          <p:cNvCxnSpPr>
            <a:stCxn id="495" idx="5"/>
            <a:endCxn id="484" idx="1"/>
          </p:cNvCxnSpPr>
          <p:nvPr/>
        </p:nvCxnSpPr>
        <p:spPr>
          <a:xfrm>
            <a:off x="5514840" y="2895480"/>
            <a:ext cx="1139040" cy="6105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501" name=""/>
          <p:cNvCxnSpPr>
            <a:stCxn id="497" idx="0"/>
            <a:endCxn id="484" idx="3"/>
          </p:cNvCxnSpPr>
          <p:nvPr/>
        </p:nvCxnSpPr>
        <p:spPr>
          <a:xfrm flipV="1">
            <a:off x="6095880" y="3961800"/>
            <a:ext cx="55800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8381880" y="60199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14800" y="35812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24480" y="35812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05" name=""/>
          <p:cNvCxnSpPr>
            <a:stCxn id="503" idx="0"/>
            <a:endCxn id="495" idx="3"/>
          </p:cNvCxnSpPr>
          <p:nvPr/>
        </p:nvCxnSpPr>
        <p:spPr>
          <a:xfrm flipV="1">
            <a:off x="4495680" y="2895120"/>
            <a:ext cx="53424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506" name=""/>
          <p:cNvCxnSpPr>
            <a:stCxn id="495" idx="5"/>
            <a:endCxn id="504" idx="0"/>
          </p:cNvCxnSpPr>
          <p:nvPr/>
        </p:nvCxnSpPr>
        <p:spPr>
          <a:xfrm>
            <a:off x="5514840" y="2895480"/>
            <a:ext cx="11916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6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6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49" dur="2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0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2: s[right[left[t]]&gt;s[right[t]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Left-Rotate (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Right-Rotate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Maintain (L) &amp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Maintain (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Maintain (B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"/>
          <p:cNvSpPr/>
          <p:nvPr/>
        </p:nvSpPr>
        <p:spPr>
          <a:xfrm>
            <a:off x="4929120" y="2362320"/>
            <a:ext cx="6858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114800" y="35812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324480" y="35812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0" idx="0"/>
            <a:endCxn id="509" idx="3"/>
          </p:cNvCxnSpPr>
          <p:nvPr/>
        </p:nvCxnSpPr>
        <p:spPr>
          <a:xfrm flipV="1">
            <a:off x="4495680" y="2895120"/>
            <a:ext cx="53424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513" name=""/>
          <p:cNvCxnSpPr>
            <a:stCxn id="509" idx="5"/>
            <a:endCxn id="511" idx="0"/>
          </p:cNvCxnSpPr>
          <p:nvPr/>
        </p:nvCxnSpPr>
        <p:spPr>
          <a:xfrm>
            <a:off x="5514840" y="2895480"/>
            <a:ext cx="11916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4876920" y="23623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7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7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3" dur="2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6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通常我们可以确保性质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(a)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或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(b)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已经被满足了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为了提高效率我们可以增加一个布尔型参数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flag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来去除无意义的检查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If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flag=false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If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s[left[left[t]]&gt;s[right[t]]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then       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//case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Right-Rotate(t)                                //case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Else if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s[right[left[t]]&gt;s[right[t]]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then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//case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Left-Rotate(left[t])                       //case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Right-Rotate(t)                             //case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  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Else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exit                                         //needn’t repai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Else if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s[right[right[t]]&gt;s[left[t]]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then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//case 1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Left-Rotate(t)                                 //case 1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Else if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s[left[right[t]]&gt;s[left[t]]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then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//case 2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Right-Rotate(right[t])  </a:t>
            </a:r>
            <a:r>
              <a:rPr b="1" lang="zh-CN" sz="8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             //case 2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Left-Rotate(t)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//case 2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  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Else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exit                                        //needn’t repai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5960" y="15235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Maintain(left[t],false)   //repair the left subt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Maintain(right[t],true)  //repair the right subt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Maintain(t,false)</a:t>
            </a:r>
            <a:r>
              <a:rPr b="1" lang="zh-CN" sz="2000" spc="-1" strike="noStrike">
                <a:solidFill>
                  <a:srgbClr val="ffffff"/>
                </a:solidFill>
                <a:latin typeface="바탕"/>
                <a:ea typeface="바탕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//repair the whole t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Maintain(t,true) </a:t>
            </a:r>
            <a:r>
              <a:rPr b="1" lang="zh-CN" sz="2000" spc="-1" strike="noStrike">
                <a:solidFill>
                  <a:srgbClr val="ffffff"/>
                </a:solidFill>
                <a:latin typeface="바탕"/>
                <a:ea typeface="바탕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//repair the whole t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181480" y="55627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Maintain(t,flag)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aly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nalysis Of He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F[H]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高度为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H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SB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最少的结点个数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F[H]=Fibonacci[H+2]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533520" y="4343400"/>
          <a:ext cx="8001000" cy="1828800"/>
        </p:xfrm>
        <a:graphic>
          <a:graphicData uri="http://schemas.openxmlformats.org/drawingml/2006/table">
            <a:tbl>
              <a:tblPr/>
              <a:tblGrid>
                <a:gridCol w="1086120"/>
                <a:gridCol w="995040"/>
                <a:gridCol w="1187640"/>
                <a:gridCol w="1384200"/>
                <a:gridCol w="1576440"/>
                <a:gridCol w="177156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[H]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3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78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783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aly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nalysis Of He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定理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个结点的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SBT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的最坏深度为最大的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且满足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F[H] ≤ N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因此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Max_Height[N] ≤1.44log</a:t>
            </a:r>
            <a:r>
              <a:rPr b="1" lang="zh-CN" sz="3200" spc="-1" strike="noStrike" baseline="-25000">
                <a:solidFill>
                  <a:srgbClr val="ffcc00"/>
                </a:solidFill>
                <a:latin typeface="Garamond"/>
              </a:rPr>
              <a:t>2</a:t>
            </a:r>
            <a:r>
              <a:rPr b="1" lang="zh-CN" sz="3200" spc="-1" strike="noStrike" baseline="30000">
                <a:solidFill>
                  <a:srgbClr val="ffcc00"/>
                </a:solidFill>
                <a:latin typeface="Garamond"/>
              </a:rPr>
              <a:t>(N+1.5)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-1.3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009800" y="4952880"/>
            <a:ext cx="712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宋体"/>
              </a:rPr>
              <a:t>Height=O(logn)</a:t>
            </a:r>
            <a:endParaRPr b="1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宋体"/>
              <a:ea typeface="华文宋体"/>
            </a:endParaRPr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aly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nalysis Of Maint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设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SD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为所有结点的深度之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结论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在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Maintain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的旋转后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SD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总是递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nary Search T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为了方便讨论我们定义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Left [T]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结点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T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的左儿子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Right [T]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结点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T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的右儿子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S [T]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以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为根的子树的结点个数（大小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aly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nalysis Of Maint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1 : s[A]&gt;s[R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SD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减少了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s[A]-s[R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正整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191120" y="2209680"/>
            <a:ext cx="4647960" cy="3505320"/>
            <a:chOff x="4191120" y="2209680"/>
            <a:chExt cx="4647960" cy="3505320"/>
          </a:xfrm>
        </p:grpSpPr>
        <p:sp>
          <p:nvSpPr>
            <p:cNvPr id="533" name=""/>
            <p:cNvSpPr/>
            <p:nvPr/>
          </p:nvSpPr>
          <p:spPr>
            <a:xfrm>
              <a:off x="6248520" y="2209680"/>
              <a:ext cx="685800" cy="60984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29200" y="3581280"/>
              <a:ext cx="685800" cy="60984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91520" y="3581280"/>
              <a:ext cx="6858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91120" y="4800600"/>
              <a:ext cx="76176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77120" y="5029200"/>
              <a:ext cx="685800" cy="685800"/>
            </a:xfrm>
            <a:prstGeom prst="flowChartExtra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38" name=""/>
            <p:cNvCxnSpPr>
              <a:stCxn id="534" idx="3"/>
              <a:endCxn id="536" idx="0"/>
            </p:cNvCxnSpPr>
            <p:nvPr/>
          </p:nvCxnSpPr>
          <p:spPr>
            <a:xfrm flipH="1">
              <a:off x="4571640" y="4114800"/>
              <a:ext cx="55800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539" name=""/>
            <p:cNvSpPr/>
            <p:nvPr/>
          </p:nvSpPr>
          <p:spPr>
            <a:xfrm>
              <a:off x="5638680" y="4800600"/>
              <a:ext cx="76212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4" idx="5"/>
              <a:endCxn id="539" idx="0"/>
            </p:cNvCxnSpPr>
            <p:nvPr/>
          </p:nvCxnSpPr>
          <p:spPr>
            <a:xfrm>
              <a:off x="5614560" y="4114800"/>
              <a:ext cx="40572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41" name=""/>
            <p:cNvCxnSpPr>
              <a:stCxn id="533" idx="3"/>
              <a:endCxn id="534" idx="0"/>
            </p:cNvCxnSpPr>
            <p:nvPr/>
          </p:nvCxnSpPr>
          <p:spPr>
            <a:xfrm flipH="1">
              <a:off x="5371560" y="2742840"/>
              <a:ext cx="976680" cy="8262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42" name=""/>
            <p:cNvCxnSpPr>
              <a:stCxn id="533" idx="5"/>
              <a:endCxn id="535" idx="0"/>
            </p:cNvCxnSpPr>
            <p:nvPr/>
          </p:nvCxnSpPr>
          <p:spPr>
            <a:xfrm>
              <a:off x="6834240" y="2742840"/>
              <a:ext cx="900720" cy="8262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43" name=""/>
            <p:cNvCxnSpPr>
              <a:stCxn id="539" idx="5"/>
              <a:endCxn id="539" idx="5"/>
            </p:cNvCxnSpPr>
            <p:nvPr/>
          </p:nvCxnSpPr>
          <p:spPr>
            <a:xfrm>
              <a:off x="6222600" y="5105160"/>
              <a:ext cx="108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544" name=""/>
            <p:cNvSpPr/>
            <p:nvPr/>
          </p:nvSpPr>
          <p:spPr>
            <a:xfrm>
              <a:off x="8077320" y="4800600"/>
              <a:ext cx="76176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29400" y="4800600"/>
              <a:ext cx="76212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46" name=""/>
            <p:cNvCxnSpPr>
              <a:stCxn id="545" idx="0"/>
              <a:endCxn id="535" idx="3"/>
            </p:cNvCxnSpPr>
            <p:nvPr/>
          </p:nvCxnSpPr>
          <p:spPr>
            <a:xfrm flipV="1">
              <a:off x="7010280" y="4114440"/>
              <a:ext cx="48168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47" name=""/>
            <p:cNvCxnSpPr>
              <a:stCxn id="535" idx="5"/>
              <a:endCxn id="544" idx="0"/>
            </p:cNvCxnSpPr>
            <p:nvPr/>
          </p:nvCxnSpPr>
          <p:spPr>
            <a:xfrm>
              <a:off x="7977240" y="4114800"/>
              <a:ext cx="48168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</p:grpSp>
      <p:grpSp>
        <p:nvGrpSpPr>
          <p:cNvPr id="548" name=""/>
          <p:cNvGrpSpPr/>
          <p:nvPr/>
        </p:nvGrpSpPr>
        <p:grpSpPr>
          <a:xfrm>
            <a:off x="4191120" y="2362320"/>
            <a:ext cx="4647960" cy="4419360"/>
            <a:chOff x="4191120" y="2362320"/>
            <a:chExt cx="4647960" cy="4419360"/>
          </a:xfrm>
        </p:grpSpPr>
        <p:sp>
          <p:nvSpPr>
            <p:cNvPr id="549" name=""/>
            <p:cNvSpPr/>
            <p:nvPr/>
          </p:nvSpPr>
          <p:spPr>
            <a:xfrm>
              <a:off x="6248520" y="3581280"/>
              <a:ext cx="685800" cy="60984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29200" y="2362320"/>
              <a:ext cx="685800" cy="6094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91520" y="4952880"/>
              <a:ext cx="6858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91120" y="3581280"/>
              <a:ext cx="761760" cy="609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4571640" y="2895480"/>
              <a:ext cx="55800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554" name=""/>
            <p:cNvSpPr/>
            <p:nvPr/>
          </p:nvSpPr>
          <p:spPr>
            <a:xfrm>
              <a:off x="5638680" y="4800600"/>
              <a:ext cx="76212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55" name=""/>
            <p:cNvCxnSpPr>
              <a:stCxn id="549" idx="5"/>
              <a:endCxn id="551" idx="0"/>
            </p:cNvCxnSpPr>
            <p:nvPr/>
          </p:nvCxnSpPr>
          <p:spPr>
            <a:xfrm>
              <a:off x="6834240" y="4114440"/>
              <a:ext cx="900720" cy="8262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56" name=""/>
            <p:cNvCxnSpPr/>
            <p:nvPr/>
          </p:nvCxnSpPr>
          <p:spPr>
            <a:xfrm>
              <a:off x="6210000" y="6476760"/>
              <a:ext cx="108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557" name=""/>
            <p:cNvSpPr/>
            <p:nvPr/>
          </p:nvSpPr>
          <p:spPr>
            <a:xfrm>
              <a:off x="8077320" y="6172200"/>
              <a:ext cx="76176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29400" y="6172200"/>
              <a:ext cx="76212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58" idx="0"/>
              <a:endCxn id="551" idx="3"/>
            </p:cNvCxnSpPr>
            <p:nvPr/>
          </p:nvCxnSpPr>
          <p:spPr>
            <a:xfrm flipV="1">
              <a:off x="7010280" y="5486040"/>
              <a:ext cx="48168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60" name=""/>
            <p:cNvCxnSpPr>
              <a:stCxn id="551" idx="5"/>
              <a:endCxn id="557" idx="0"/>
            </p:cNvCxnSpPr>
            <p:nvPr/>
          </p:nvCxnSpPr>
          <p:spPr>
            <a:xfrm>
              <a:off x="7977240" y="5486400"/>
              <a:ext cx="48168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61" name=""/>
            <p:cNvCxnSpPr>
              <a:stCxn id="550" idx="5"/>
              <a:endCxn id="549" idx="0"/>
            </p:cNvCxnSpPr>
            <p:nvPr/>
          </p:nvCxnSpPr>
          <p:spPr>
            <a:xfrm>
              <a:off x="5614920" y="2895480"/>
              <a:ext cx="97704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62" name=""/>
            <p:cNvCxnSpPr>
              <a:stCxn id="554" idx="0"/>
              <a:endCxn id="549" idx="3"/>
            </p:cNvCxnSpPr>
            <p:nvPr/>
          </p:nvCxnSpPr>
          <p:spPr>
            <a:xfrm flipV="1">
              <a:off x="6019920" y="4114440"/>
              <a:ext cx="32904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</p:grp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1" dur="2000" fill="hold"/>
                                        <p:tgtEl>
                                          <p:spTgt spid="5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indefinite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7341E-007 L -0.4125 1.7341E-007 E">
                                      <p:cBhvr>
                                        <p:cTn id="855" dur="2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5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5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5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aly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nalysis Of Maint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Case 2 : s[B]&gt;s[R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SD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减少了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s[B]-s[R]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正整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4191120" y="2209680"/>
            <a:ext cx="4647960" cy="4419720"/>
            <a:chOff x="4191120" y="2209680"/>
            <a:chExt cx="4647960" cy="4419720"/>
          </a:xfrm>
        </p:grpSpPr>
        <p:sp>
          <p:nvSpPr>
            <p:cNvPr id="566" name=""/>
            <p:cNvSpPr/>
            <p:nvPr/>
          </p:nvSpPr>
          <p:spPr>
            <a:xfrm>
              <a:off x="6248520" y="2209680"/>
              <a:ext cx="685800" cy="60984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29200" y="3581280"/>
              <a:ext cx="685800" cy="60984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91520" y="3581280"/>
              <a:ext cx="6858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91120" y="4800600"/>
              <a:ext cx="76176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7120" y="5029200"/>
              <a:ext cx="685800" cy="685800"/>
            </a:xfrm>
            <a:prstGeom prst="flowChartExtra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67" idx="3"/>
              <a:endCxn id="569" idx="0"/>
            </p:cNvCxnSpPr>
            <p:nvPr/>
          </p:nvCxnSpPr>
          <p:spPr>
            <a:xfrm flipH="1">
              <a:off x="4571640" y="4114800"/>
              <a:ext cx="55800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72" name=""/>
            <p:cNvCxnSpPr>
              <a:stCxn id="566" idx="3"/>
              <a:endCxn id="567" idx="0"/>
            </p:cNvCxnSpPr>
            <p:nvPr/>
          </p:nvCxnSpPr>
          <p:spPr>
            <a:xfrm flipH="1">
              <a:off x="5371560" y="2742840"/>
              <a:ext cx="976680" cy="8262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73" name=""/>
            <p:cNvCxnSpPr>
              <a:stCxn id="566" idx="5"/>
              <a:endCxn id="568" idx="0"/>
            </p:cNvCxnSpPr>
            <p:nvPr/>
          </p:nvCxnSpPr>
          <p:spPr>
            <a:xfrm>
              <a:off x="6834240" y="2742840"/>
              <a:ext cx="900720" cy="8262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74" name=""/>
            <p:cNvCxnSpPr/>
            <p:nvPr/>
          </p:nvCxnSpPr>
          <p:spPr>
            <a:xfrm>
              <a:off x="6286320" y="5105160"/>
              <a:ext cx="108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575" name=""/>
            <p:cNvSpPr/>
            <p:nvPr/>
          </p:nvSpPr>
          <p:spPr>
            <a:xfrm>
              <a:off x="8077320" y="4800600"/>
              <a:ext cx="76176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29400" y="4800600"/>
              <a:ext cx="76212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76" idx="0"/>
              <a:endCxn id="568" idx="3"/>
            </p:cNvCxnSpPr>
            <p:nvPr/>
          </p:nvCxnSpPr>
          <p:spPr>
            <a:xfrm flipV="1">
              <a:off x="7010280" y="4114440"/>
              <a:ext cx="48168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78" name=""/>
            <p:cNvCxnSpPr>
              <a:stCxn id="568" idx="5"/>
              <a:endCxn id="575" idx="0"/>
            </p:cNvCxnSpPr>
            <p:nvPr/>
          </p:nvCxnSpPr>
          <p:spPr>
            <a:xfrm>
              <a:off x="7977240" y="4114800"/>
              <a:ext cx="48168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579" name=""/>
            <p:cNvSpPr/>
            <p:nvPr/>
          </p:nvSpPr>
          <p:spPr>
            <a:xfrm>
              <a:off x="5715000" y="4800600"/>
              <a:ext cx="68580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67" idx="5"/>
              <a:endCxn id="579" idx="0"/>
            </p:cNvCxnSpPr>
            <p:nvPr/>
          </p:nvCxnSpPr>
          <p:spPr>
            <a:xfrm>
              <a:off x="5614560" y="4114800"/>
              <a:ext cx="44388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581" name=""/>
            <p:cNvSpPr/>
            <p:nvPr/>
          </p:nvSpPr>
          <p:spPr>
            <a:xfrm>
              <a:off x="4876920" y="6019920"/>
              <a:ext cx="76176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82" name=""/>
            <p:cNvCxnSpPr>
              <a:endCxn id="581" idx="0"/>
            </p:cNvCxnSpPr>
            <p:nvPr/>
          </p:nvCxnSpPr>
          <p:spPr>
            <a:xfrm flipH="1">
              <a:off x="5257440" y="5308560"/>
              <a:ext cx="558000" cy="6991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583" name=""/>
            <p:cNvSpPr/>
            <p:nvPr/>
          </p:nvSpPr>
          <p:spPr>
            <a:xfrm>
              <a:off x="6424560" y="6019920"/>
              <a:ext cx="76212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84" name=""/>
            <p:cNvCxnSpPr>
              <a:endCxn id="583" idx="0"/>
            </p:cNvCxnSpPr>
            <p:nvPr/>
          </p:nvCxnSpPr>
          <p:spPr>
            <a:xfrm>
              <a:off x="6324480" y="5308560"/>
              <a:ext cx="481680" cy="6991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</p:grpSp>
      <p:grpSp>
        <p:nvGrpSpPr>
          <p:cNvPr id="585" name=""/>
          <p:cNvGrpSpPr/>
          <p:nvPr/>
        </p:nvGrpSpPr>
        <p:grpSpPr>
          <a:xfrm>
            <a:off x="3352680" y="2362320"/>
            <a:ext cx="5791320" cy="4267080"/>
            <a:chOff x="3352680" y="2362320"/>
            <a:chExt cx="5791320" cy="4267080"/>
          </a:xfrm>
        </p:grpSpPr>
        <p:sp>
          <p:nvSpPr>
            <p:cNvPr id="586" name=""/>
            <p:cNvSpPr/>
            <p:nvPr/>
          </p:nvSpPr>
          <p:spPr>
            <a:xfrm>
              <a:off x="6553080" y="3429000"/>
              <a:ext cx="685800" cy="6094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91120" y="3581280"/>
              <a:ext cx="685800" cy="60984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96080" y="4800600"/>
              <a:ext cx="68580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2680" y="4800600"/>
              <a:ext cx="76212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53080" y="5029200"/>
              <a:ext cx="685800" cy="685800"/>
            </a:xfrm>
            <a:prstGeom prst="flowChartExtra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1" name=""/>
            <p:cNvCxnSpPr>
              <a:stCxn id="587" idx="3"/>
              <a:endCxn id="589" idx="0"/>
            </p:cNvCxnSpPr>
            <p:nvPr/>
          </p:nvCxnSpPr>
          <p:spPr>
            <a:xfrm flipH="1">
              <a:off x="3733200" y="4114800"/>
              <a:ext cx="55764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92" name=""/>
            <p:cNvCxnSpPr>
              <a:stCxn id="586" idx="5"/>
              <a:endCxn id="588" idx="0"/>
            </p:cNvCxnSpPr>
            <p:nvPr/>
          </p:nvCxnSpPr>
          <p:spPr>
            <a:xfrm>
              <a:off x="7139160" y="3962160"/>
              <a:ext cx="900720" cy="8262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93" name=""/>
            <p:cNvCxnSpPr/>
            <p:nvPr/>
          </p:nvCxnSpPr>
          <p:spPr>
            <a:xfrm>
              <a:off x="6362280" y="5105160"/>
              <a:ext cx="108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8381880" y="6019920"/>
              <a:ext cx="76212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34320" y="6019920"/>
              <a:ext cx="76176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"/>
            <p:cNvCxnSpPr>
              <a:stCxn id="595" idx="0"/>
              <a:endCxn id="588" idx="3"/>
            </p:cNvCxnSpPr>
            <p:nvPr/>
          </p:nvCxnSpPr>
          <p:spPr>
            <a:xfrm flipV="1">
              <a:off x="7315200" y="5333760"/>
              <a:ext cx="481680" cy="6732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597" name=""/>
            <p:cNvCxnSpPr>
              <a:stCxn id="588" idx="5"/>
              <a:endCxn id="594" idx="0"/>
            </p:cNvCxnSpPr>
            <p:nvPr/>
          </p:nvCxnSpPr>
          <p:spPr>
            <a:xfrm>
              <a:off x="8282160" y="5333760"/>
              <a:ext cx="481680" cy="6732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598" name=""/>
            <p:cNvSpPr/>
            <p:nvPr/>
          </p:nvSpPr>
          <p:spPr>
            <a:xfrm>
              <a:off x="4929120" y="2362320"/>
              <a:ext cx="68580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0600" y="4800600"/>
              <a:ext cx="76212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715000" y="4800600"/>
              <a:ext cx="76212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87" idx="0"/>
              <a:endCxn id="598" idx="3"/>
            </p:cNvCxnSpPr>
            <p:nvPr/>
          </p:nvCxnSpPr>
          <p:spPr>
            <a:xfrm flipV="1">
              <a:off x="4533840" y="2895120"/>
              <a:ext cx="49608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602" name=""/>
            <p:cNvCxnSpPr>
              <a:stCxn id="587" idx="5"/>
              <a:endCxn id="599" idx="0"/>
            </p:cNvCxnSpPr>
            <p:nvPr/>
          </p:nvCxnSpPr>
          <p:spPr>
            <a:xfrm>
              <a:off x="4776840" y="4114800"/>
              <a:ext cx="405360" cy="673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603" name=""/>
            <p:cNvCxnSpPr>
              <a:stCxn id="598" idx="5"/>
              <a:endCxn id="586" idx="1"/>
            </p:cNvCxnSpPr>
            <p:nvPr/>
          </p:nvCxnSpPr>
          <p:spPr>
            <a:xfrm>
              <a:off x="5514840" y="2895480"/>
              <a:ext cx="1139040" cy="6105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604" name=""/>
            <p:cNvCxnSpPr>
              <a:stCxn id="600" idx="0"/>
              <a:endCxn id="586" idx="3"/>
            </p:cNvCxnSpPr>
            <p:nvPr/>
          </p:nvCxnSpPr>
          <p:spPr>
            <a:xfrm flipV="1">
              <a:off x="6095880" y="3961800"/>
              <a:ext cx="558000" cy="8262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</p:grp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2000" fill="hold"/>
                                        <p:tgtEl>
                                          <p:spTgt spid="56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78035E-007 L -0.42917 -0.06659 E">
                                      <p:cBhvr>
                                        <p:cTn id="887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indefinite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aly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nalysis Of Maint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结论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SD 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总保持在 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O(nlog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综合结论（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）（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）我们得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Maintain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的摊平时间复杂度 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= O( 1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aly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nalysis Of Ope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685800" y="2286000"/>
          <a:ext cx="7772040" cy="4114440"/>
        </p:xfrm>
        <a:graphic>
          <a:graphicData uri="http://schemas.openxmlformats.org/drawingml/2006/table">
            <a:tbl>
              <a:tblPr/>
              <a:tblGrid>
                <a:gridCol w="3885840"/>
                <a:gridCol w="3886200"/>
              </a:tblGrid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r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(log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le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(log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(log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an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(log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lec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(log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(log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c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(log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七大优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速度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77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5" dur="77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7" dur="77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9" dur="77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21028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1523880" y="2514600"/>
            <a:ext cx="29782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514"/>
                </a:solidFill>
                <a:latin typeface="바탕"/>
                <a:ea typeface="바탕"/>
              </a:rPr>
              <a:t>环境</a:t>
            </a:r>
            <a:r>
              <a:rPr b="1" lang="zh-CN" sz="2000" spc="-1" strike="noStrike">
                <a:solidFill>
                  <a:srgbClr val="000514"/>
                </a:solidFill>
                <a:latin typeface="바탕"/>
                <a:ea typeface="바탕"/>
              </a:rPr>
              <a:t>: 512M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514"/>
                </a:solidFill>
                <a:latin typeface="바탕"/>
                <a:ea typeface="바탕"/>
              </a:rPr>
              <a:t>Pentium M 1.6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2135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1523880" y="2514600"/>
            <a:ext cx="29782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514"/>
                </a:solidFill>
                <a:latin typeface="바탕"/>
                <a:ea typeface="바탕"/>
              </a:rPr>
              <a:t>环境</a:t>
            </a:r>
            <a:r>
              <a:rPr b="1" lang="zh-CN" sz="2000" spc="-1" strike="noStrike">
                <a:solidFill>
                  <a:srgbClr val="000514"/>
                </a:solidFill>
                <a:latin typeface="바탕"/>
                <a:ea typeface="바탕"/>
              </a:rPr>
              <a:t>: 512M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514"/>
                </a:solidFill>
                <a:latin typeface="바탕"/>
                <a:ea typeface="바탕"/>
              </a:rPr>
              <a:t>Pentium M 1.6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52704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3848040" y="1981080"/>
            <a:ext cx="190440" cy="2858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3809880" y="1905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바탕"/>
                <a:ea typeface="바탕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23880" y="2514600"/>
            <a:ext cx="29782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514"/>
                </a:solidFill>
                <a:latin typeface="바탕"/>
                <a:ea typeface="바탕"/>
              </a:rPr>
              <a:t>环境</a:t>
            </a:r>
            <a:r>
              <a:rPr b="1" lang="zh-CN" sz="2000" spc="-1" strike="noStrike">
                <a:solidFill>
                  <a:srgbClr val="000514"/>
                </a:solidFill>
                <a:latin typeface="바탕"/>
                <a:ea typeface="바탕"/>
              </a:rPr>
              <a:t>: 512M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514"/>
                </a:solidFill>
                <a:latin typeface="바탕"/>
                <a:ea typeface="바탕"/>
              </a:rPr>
              <a:t>Pentium M 1.6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七大优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速度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性能高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77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8" dur="77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0" dur="77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2" dur="77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插入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2,000,000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个关键字随机的结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457200" y="2438280"/>
          <a:ext cx="8229600" cy="3581640"/>
        </p:xfrm>
        <a:graphic>
          <a:graphicData uri="http://schemas.openxmlformats.org/drawingml/2006/table">
            <a:tbl>
              <a:tblPr/>
              <a:tblGrid>
                <a:gridCol w="1447920"/>
                <a:gridCol w="990360"/>
                <a:gridCol w="990720"/>
                <a:gridCol w="990720"/>
                <a:gridCol w="1371600"/>
                <a:gridCol w="1371600"/>
                <a:gridCol w="1066680"/>
              </a:tblGrid>
              <a:tr h="104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e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domized B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l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fect B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平均深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9.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.5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.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.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高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旋转次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15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为了保持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BST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平衡，我们通常使用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Rotations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来改变树的形态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Rotations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分为相对的两种类型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Right-Rot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      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Left-Rot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插入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2,000,000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个关键字有序的结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457200" y="2438280"/>
          <a:ext cx="8229600" cy="3581640"/>
        </p:xfrm>
        <a:graphic>
          <a:graphicData uri="http://schemas.openxmlformats.org/drawingml/2006/table">
            <a:tbl>
              <a:tblPr/>
              <a:tblGrid>
                <a:gridCol w="1447920"/>
                <a:gridCol w="990360"/>
                <a:gridCol w="990720"/>
                <a:gridCol w="990720"/>
                <a:gridCol w="1371600"/>
                <a:gridCol w="1371600"/>
                <a:gridCol w="1066680"/>
              </a:tblGrid>
              <a:tr h="104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e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domized B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l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fect B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平均深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8.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.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9999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高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99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旋转次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七大优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速度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性能高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调试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七大优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速度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性能高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调试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代码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七大优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速度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性能高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调试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代码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空间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七大优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速度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性能高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调试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代码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空间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功能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七大优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速度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性能高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调试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代码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空间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功能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应用广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在信息学竞赛中的应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华文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Happy Birthday(NOI2006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华文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郁闷的出纳员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(NOI200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华文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营业额统计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(HNOI200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华文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宠物收养所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(HNOI200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80880" y="54100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感性认识 理性认识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7" name=""/>
          <p:cNvSpPr/>
          <p:nvPr/>
        </p:nvSpPr>
        <p:spPr>
          <a:xfrm>
            <a:off x="2797200" y="3139920"/>
            <a:ext cx="353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Arial Unicode MS"/>
              </a:rPr>
              <a:t>感性与理性中螺旋前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探索历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fade thruBlk="true"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79191E-006 L 0 -0.72139 E">
                                      <p:cBhvr>
                                        <p:cTn id="1010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-115200" y="4157640"/>
            <a:ext cx="4850280" cy="1490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s[left[t]]&gt;s[right[t]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then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right_rotate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简 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257800" y="4335480"/>
            <a:ext cx="3505320" cy="1072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效果不好，不一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能降低平均深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0880" y="45720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感性认识 理性认识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2" name=""/>
          <p:cNvSpPr/>
          <p:nvPr/>
        </p:nvSpPr>
        <p:spPr>
          <a:xfrm rot="5400000">
            <a:off x="4628880" y="2305080"/>
            <a:ext cx="1562040" cy="1676520"/>
          </a:xfrm>
          <a:custGeom>
            <a:avLst/>
            <a:gdLst>
              <a:gd name="textAreaLeft" fmla="*/ 0 w 1562040"/>
              <a:gd name="textAreaRight" fmla="*/ 1562400 w 15620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295 E">
                                      <p:cBhvr>
                                        <p:cTn id="1035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7" dur="indefinite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76320" y="4343400"/>
            <a:ext cx="5105160" cy="1895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s[left[left[t]]]&gt;s[right[t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then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right_rotate 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能降低平均深度。可能这是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决有序和随机数据的最好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257800" y="4335480"/>
            <a:ext cx="3505320" cy="1072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效果不好，不一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能降低平均深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80880" y="45720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感性认识 理性认识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6" name=""/>
          <p:cNvSpPr/>
          <p:nvPr/>
        </p:nvSpPr>
        <p:spPr>
          <a:xfrm>
            <a:off x="-115200" y="1862280"/>
            <a:ext cx="4850280" cy="1490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s[left[t]]&gt;s[right[t]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then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right_rotate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简 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7723800">
            <a:off x="4457160" y="3314520"/>
            <a:ext cx="990720" cy="762120"/>
          </a:xfrm>
          <a:prstGeom prst="rightArrow">
            <a:avLst>
              <a:gd name="adj1" fmla="val 50000"/>
              <a:gd name="adj2" fmla="val 32499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indefinite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048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indefinite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Right-Ro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16002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3"/>
            <a:endCxn id="120" idx="0"/>
          </p:cNvCxnSpPr>
          <p:nvPr/>
        </p:nvCxnSpPr>
        <p:spPr>
          <a:xfrm flipH="1">
            <a:off x="2818800" y="3504960"/>
            <a:ext cx="55764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38862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9" idx="5"/>
            <a:endCxn id="122" idx="0"/>
          </p:cNvCxnSpPr>
          <p:nvPr/>
        </p:nvCxnSpPr>
        <p:spPr>
          <a:xfrm>
            <a:off x="3862440" y="3504960"/>
            <a:ext cx="40536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24" name=""/>
          <p:cNvCxnSpPr>
            <a:stCxn id="118" idx="3"/>
            <a:endCxn id="119" idx="0"/>
          </p:cNvCxnSpPr>
          <p:nvPr/>
        </p:nvCxnSpPr>
        <p:spPr>
          <a:xfrm flipH="1">
            <a:off x="3619080" y="2133360"/>
            <a:ext cx="97704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25" name=""/>
          <p:cNvCxnSpPr>
            <a:stCxn id="118" idx="5"/>
            <a:endCxn id="126" idx="0"/>
          </p:cNvCxnSpPr>
          <p:nvPr/>
        </p:nvCxnSpPr>
        <p:spPr>
          <a:xfrm>
            <a:off x="5081760" y="2133360"/>
            <a:ext cx="9388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27" name=""/>
          <p:cNvCxnSpPr>
            <a:stCxn id="122" idx="5"/>
            <a:endCxn id="122" idx="5"/>
          </p:cNvCxnSpPr>
          <p:nvPr/>
        </p:nvCxnSpPr>
        <p:spPr>
          <a:xfrm>
            <a:off x="4470120" y="449532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00040" y="5181480"/>
            <a:ext cx="2689920" cy="609480"/>
            <a:chOff x="500040" y="5181480"/>
            <a:chExt cx="2689920" cy="609480"/>
          </a:xfrm>
        </p:grpSpPr>
        <p:sp>
          <p:nvSpPr>
            <p:cNvPr id="130" name=""/>
            <p:cNvSpPr/>
            <p:nvPr/>
          </p:nvSpPr>
          <p:spPr>
            <a:xfrm>
              <a:off x="1119600" y="5257800"/>
              <a:ext cx="2070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表示结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0040" y="5181480"/>
              <a:ext cx="685800" cy="6094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062760" y="5181480"/>
            <a:ext cx="2938680" cy="611640"/>
            <a:chOff x="6062760" y="5181480"/>
            <a:chExt cx="2938680" cy="611640"/>
          </a:xfrm>
        </p:grpSpPr>
        <p:sp>
          <p:nvSpPr>
            <p:cNvPr id="133" name=""/>
            <p:cNvSpPr/>
            <p:nvPr/>
          </p:nvSpPr>
          <p:spPr>
            <a:xfrm>
              <a:off x="6062760" y="5181480"/>
              <a:ext cx="762120" cy="609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88360" y="5260680"/>
              <a:ext cx="24130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表示</a:t>
              </a:r>
              <a:r>
                <a:rPr b="1" lang="zh-CN" sz="3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BS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638680" y="29718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76320" y="4343400"/>
            <a:ext cx="5105160" cy="1895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s[left[left[t]]]&gt;s[right[t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then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right_rotate 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能降低平均深度。可能这是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决有序和随机数据的最好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10080" y="4335480"/>
            <a:ext cx="3505320" cy="1731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依赖数据．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华文宋体"/>
                <a:ea typeface="华文宋体"/>
                <a:hlinkClick r:id="rId1" action="ppaction://hlinksldjump"/>
              </a:rPr>
              <a:t>对于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华文宋体"/>
                <a:ea typeface="华文宋体"/>
                <a:hlinkClick r:id="rId2" action="ppaction://hlinksldjump"/>
              </a:rPr>
              <a:t>字形数据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，ＢＳ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会退化成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(N)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深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80880" y="45720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感性认识 理性认识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1" name=""/>
          <p:cNvSpPr/>
          <p:nvPr/>
        </p:nvSpPr>
        <p:spPr>
          <a:xfrm>
            <a:off x="-115200" y="1862280"/>
            <a:ext cx="4850280" cy="1490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s[left[t]]&gt;s[right[t]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then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right_rotate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简 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257800" y="2049480"/>
            <a:ext cx="3505320" cy="1072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效果不好，不一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能降低平均深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3542760" y="4304880"/>
            <a:ext cx="1371600" cy="1295640"/>
          </a:xfrm>
          <a:custGeom>
            <a:avLst/>
            <a:gdLst>
              <a:gd name="textAreaLeft" fmla="*/ 457200 w 1371600"/>
              <a:gd name="textAreaRight" fmla="*/ 1175040 w 1371600"/>
              <a:gd name="textAreaTop" fmla="*/ 746280 h 1295640"/>
              <a:gd name="textAreaBottom" fmla="*/ 1109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indefinite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indefinite"/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073" dur="2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indefinite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5410080" y="4335480"/>
            <a:ext cx="3505320" cy="1612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依赖数据．对于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字形数据，ＢＳ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会退化成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(N)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深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6320" y="4200480"/>
            <a:ext cx="5257800" cy="1895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添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If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s[right[left[t]]]&gt;s[right[t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then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left_rotate (left[t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right_rotate 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80880" y="45720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感性认识 理性认识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7" name=""/>
          <p:cNvSpPr/>
          <p:nvPr/>
        </p:nvSpPr>
        <p:spPr>
          <a:xfrm>
            <a:off x="5257800" y="2049480"/>
            <a:ext cx="3505320" cy="1072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效果不好，不一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能降低平均深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6320" y="2066760"/>
            <a:ext cx="5105160" cy="1895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s[left[left[t]]]&gt;s[right[t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then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right_rotate 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能降低平均深度。这应该是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决有序和随机数据的很好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0800000">
            <a:off x="5486040" y="3962520"/>
            <a:ext cx="1523880" cy="137160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indefinite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indefinite"/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100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indefinite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5791320" y="4335480"/>
            <a:ext cx="2286000" cy="1072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时间复杂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不容易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80880" y="45720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感性认识 理性认识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2" name=""/>
          <p:cNvSpPr/>
          <p:nvPr/>
        </p:nvSpPr>
        <p:spPr>
          <a:xfrm>
            <a:off x="76320" y="2066760"/>
            <a:ext cx="5105160" cy="1895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s[left[left[t]]]&gt;s[right[t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then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right_rotate 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能降低平均深度。可能这是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决有序和随机数据的最好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410080" y="2057400"/>
            <a:ext cx="3505320" cy="1612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依赖数据．对于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字形数据，ＢＳ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会退化成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(N)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深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6320" y="4200480"/>
            <a:ext cx="5257800" cy="1895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添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If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s[right[left[t]]]&gt;s[right[t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then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left_rotate (left[t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right_rotate 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5400000">
            <a:off x="4152600" y="4000320"/>
            <a:ext cx="1219320" cy="1295280"/>
          </a:xfrm>
          <a:custGeom>
            <a:avLst/>
            <a:gdLst>
              <a:gd name="textAreaLeft" fmla="*/ 406440 w 1219320"/>
              <a:gd name="textAreaRight" fmla="*/ 1044360 w 121932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indefinite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indefinite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129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indefinite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133720" y="4572000"/>
            <a:ext cx="4952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Maintain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7" name=""/>
          <p:cNvSpPr/>
          <p:nvPr/>
        </p:nvSpPr>
        <p:spPr>
          <a:xfrm>
            <a:off x="5410080" y="2057400"/>
            <a:ext cx="3505320" cy="1612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依赖数据．对于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字形数据，ＢＳ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会退化成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(N)</a:t>
            </a:r>
            <a:r>
              <a:rPr b="1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深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0880" y="45720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感性认识 理性认识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9" name=""/>
          <p:cNvSpPr/>
          <p:nvPr/>
        </p:nvSpPr>
        <p:spPr>
          <a:xfrm>
            <a:off x="76320" y="1905120"/>
            <a:ext cx="5257800" cy="1895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添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If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s[right[left[t]]]&gt;s[right[t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then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left_rotate (left[t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right_rotate 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19260000">
            <a:off x="3543120" y="3772080"/>
            <a:ext cx="38088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419720" y="38098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2354400">
            <a:off x="5257800" y="38095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indefinite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indefinite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探索历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在此感谢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我的英语老师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Fio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复旦大学的姚子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香港大学的麦原和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Professor Goli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5257800" y="3048120"/>
            <a:ext cx="2438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77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5" dur="770" fill="hold"/>
                                        <p:tgtEl>
                                          <p:spTgt spid="6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7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9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想获得更详尽的内容，请参考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我的论文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ser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Simple-Insert (t,v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t=0 </a:t>
            </a: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t←NEW-NODE(v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s[t] ←s[t]+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v&lt;key[t] </a:t>
            </a: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Simple-Insert(left[t],v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바탕"/>
                <a:ea typeface="바탕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Simple-Insert(right[t],v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Maintain (t,v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≥key[t]</a:t>
            </a:r>
            <a:r>
              <a:rPr b="1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"/>
          <p:cNvSpPr/>
          <p:nvPr/>
        </p:nvSpPr>
        <p:spPr>
          <a:xfrm>
            <a:off x="380880" y="1523880"/>
            <a:ext cx="641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724280" y="312408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Insert (t,v)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6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6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6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6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6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le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为了方便，我增加了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Delete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的功能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如果没有要删除的点就删除最后搜索到的结点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le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If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s[t]≤2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record←key[t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t←left[t]+right[t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ex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s[t] ←s[t]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If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v=key[t]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Delete(left[t],v[t]+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Key[t] ←reco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Maintain(t,tru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Else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if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v&lt;key[t]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Delete(left[t],v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400" spc="-1" strike="noStrike">
                <a:solidFill>
                  <a:srgbClr val="ffcc00"/>
                </a:solidFill>
                <a:latin typeface="바탕"/>
                <a:ea typeface="바탕"/>
              </a:rPr>
              <a:t>Else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Delete(right[t],v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바탕"/>
                <a:ea typeface="바탕"/>
              </a:rPr>
              <a:t>Maintain(t,v&lt;key[t]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876920" y="312408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Delete(t,v)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le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其实结合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SBT-Insert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地使用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Simple-Delete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时间复杂度仅仅是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O(log n*)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。其中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n*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是总的插入次数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Simple-Delete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不仅更简单而且常数非常小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Right-Rot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6002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7" idx="3"/>
            <a:endCxn id="138" idx="0"/>
          </p:cNvCxnSpPr>
          <p:nvPr/>
        </p:nvCxnSpPr>
        <p:spPr>
          <a:xfrm flipH="1">
            <a:off x="2818800" y="3504960"/>
            <a:ext cx="55764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38862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36" idx="5"/>
            <a:endCxn id="143" idx="0"/>
          </p:cNvCxnSpPr>
          <p:nvPr/>
        </p:nvCxnSpPr>
        <p:spPr>
          <a:xfrm>
            <a:off x="5081760" y="2133360"/>
            <a:ext cx="9388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44" name=""/>
          <p:cNvCxnSpPr>
            <a:stCxn id="141" idx="5"/>
            <a:endCxn id="141" idx="5"/>
          </p:cNvCxnSpPr>
          <p:nvPr/>
        </p:nvCxnSpPr>
        <p:spPr>
          <a:xfrm>
            <a:off x="4470120" y="449532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9718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1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15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1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56647E-006 L -3.33333E-006 0.19976 E">
                                      <p:cBhvr>
                                        <p:cTn id="11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0" name=""/>
          <p:cNvSpPr/>
          <p:nvPr/>
        </p:nvSpPr>
        <p:spPr>
          <a:xfrm>
            <a:off x="3962520" y="16002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743200" y="29718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05520" y="29718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9051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9112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5" name=""/>
          <p:cNvCxnSpPr>
            <a:stCxn id="701" idx="3"/>
            <a:endCxn id="703" idx="0"/>
          </p:cNvCxnSpPr>
          <p:nvPr/>
        </p:nvCxnSpPr>
        <p:spPr>
          <a:xfrm flipH="1">
            <a:off x="2285640" y="3492000"/>
            <a:ext cx="55800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335268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7" name=""/>
          <p:cNvCxnSpPr>
            <a:stCxn id="701" idx="5"/>
            <a:endCxn id="706" idx="0"/>
          </p:cNvCxnSpPr>
          <p:nvPr/>
        </p:nvCxnSpPr>
        <p:spPr>
          <a:xfrm>
            <a:off x="3328560" y="3492000"/>
            <a:ext cx="40572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08" name=""/>
          <p:cNvCxnSpPr>
            <a:stCxn id="700" idx="3"/>
            <a:endCxn id="701" idx="0"/>
          </p:cNvCxnSpPr>
          <p:nvPr/>
        </p:nvCxnSpPr>
        <p:spPr>
          <a:xfrm flipH="1">
            <a:off x="3085560" y="2120760"/>
            <a:ext cx="976680" cy="851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09" name=""/>
          <p:cNvCxnSpPr>
            <a:stCxn id="700" idx="5"/>
            <a:endCxn id="702" idx="0"/>
          </p:cNvCxnSpPr>
          <p:nvPr/>
        </p:nvCxnSpPr>
        <p:spPr>
          <a:xfrm>
            <a:off x="4548240" y="2120760"/>
            <a:ext cx="900720" cy="851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10" name=""/>
          <p:cNvCxnSpPr>
            <a:stCxn id="706" idx="5"/>
            <a:endCxn id="706" idx="5"/>
          </p:cNvCxnSpPr>
          <p:nvPr/>
        </p:nvCxnSpPr>
        <p:spPr>
          <a:xfrm>
            <a:off x="3924000" y="44953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57913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3434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3" name=""/>
          <p:cNvCxnSpPr>
            <a:stCxn id="712" idx="0"/>
            <a:endCxn id="702" idx="3"/>
          </p:cNvCxnSpPr>
          <p:nvPr/>
        </p:nvCxnSpPr>
        <p:spPr>
          <a:xfrm flipV="1">
            <a:off x="4724280" y="3491640"/>
            <a:ext cx="48168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14" name=""/>
          <p:cNvCxnSpPr>
            <a:stCxn id="702" idx="5"/>
            <a:endCxn id="711" idx="0"/>
          </p:cNvCxnSpPr>
          <p:nvPr/>
        </p:nvCxnSpPr>
        <p:spPr>
          <a:xfrm>
            <a:off x="5691240" y="3492000"/>
            <a:ext cx="48168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6" name=""/>
          <p:cNvSpPr/>
          <p:nvPr/>
        </p:nvSpPr>
        <p:spPr>
          <a:xfrm>
            <a:off x="3962520" y="16002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743200" y="29718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105520" y="29718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051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19112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1" name=""/>
          <p:cNvCxnSpPr>
            <a:stCxn id="717" idx="3"/>
            <a:endCxn id="719" idx="0"/>
          </p:cNvCxnSpPr>
          <p:nvPr/>
        </p:nvCxnSpPr>
        <p:spPr>
          <a:xfrm flipH="1">
            <a:off x="2285640" y="3492000"/>
            <a:ext cx="55800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22" name=""/>
          <p:cNvCxnSpPr>
            <a:stCxn id="716" idx="3"/>
            <a:endCxn id="717" idx="0"/>
          </p:cNvCxnSpPr>
          <p:nvPr/>
        </p:nvCxnSpPr>
        <p:spPr>
          <a:xfrm flipH="1">
            <a:off x="3085560" y="2120760"/>
            <a:ext cx="976680" cy="851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23" name=""/>
          <p:cNvCxnSpPr>
            <a:stCxn id="716" idx="5"/>
            <a:endCxn id="718" idx="0"/>
          </p:cNvCxnSpPr>
          <p:nvPr/>
        </p:nvCxnSpPr>
        <p:spPr>
          <a:xfrm>
            <a:off x="4548240" y="2120760"/>
            <a:ext cx="900720" cy="851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24" name=""/>
          <p:cNvCxnSpPr/>
          <p:nvPr/>
        </p:nvCxnSpPr>
        <p:spPr>
          <a:xfrm>
            <a:off x="4000320" y="44953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25" name=""/>
          <p:cNvSpPr/>
          <p:nvPr/>
        </p:nvSpPr>
        <p:spPr>
          <a:xfrm>
            <a:off x="57913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3434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7" name=""/>
          <p:cNvCxnSpPr>
            <a:stCxn id="726" idx="0"/>
            <a:endCxn id="718" idx="3"/>
          </p:cNvCxnSpPr>
          <p:nvPr/>
        </p:nvCxnSpPr>
        <p:spPr>
          <a:xfrm flipV="1">
            <a:off x="4724280" y="3491640"/>
            <a:ext cx="48168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28" name=""/>
          <p:cNvCxnSpPr>
            <a:stCxn id="718" idx="5"/>
            <a:endCxn id="725" idx="0"/>
          </p:cNvCxnSpPr>
          <p:nvPr/>
        </p:nvCxnSpPr>
        <p:spPr>
          <a:xfrm>
            <a:off x="5691240" y="3492000"/>
            <a:ext cx="48168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29" name=""/>
          <p:cNvSpPr/>
          <p:nvPr/>
        </p:nvSpPr>
        <p:spPr>
          <a:xfrm>
            <a:off x="3429000" y="419112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0" name=""/>
          <p:cNvCxnSpPr>
            <a:stCxn id="717" idx="5"/>
            <a:endCxn id="729" idx="0"/>
          </p:cNvCxnSpPr>
          <p:nvPr/>
        </p:nvCxnSpPr>
        <p:spPr>
          <a:xfrm>
            <a:off x="3328560" y="3492000"/>
            <a:ext cx="44388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31" name=""/>
          <p:cNvSpPr/>
          <p:nvPr/>
        </p:nvSpPr>
        <p:spPr>
          <a:xfrm>
            <a:off x="2590920" y="5410080"/>
            <a:ext cx="761760" cy="6098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2" name=""/>
          <p:cNvCxnSpPr>
            <a:endCxn id="731" idx="0"/>
          </p:cNvCxnSpPr>
          <p:nvPr/>
        </p:nvCxnSpPr>
        <p:spPr>
          <a:xfrm flipH="1">
            <a:off x="2971440" y="4711680"/>
            <a:ext cx="558000" cy="6991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4138560" y="5410080"/>
            <a:ext cx="762120" cy="6098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0"/>
          </p:cNvCxnSpPr>
          <p:nvPr/>
        </p:nvCxnSpPr>
        <p:spPr>
          <a:xfrm>
            <a:off x="4038480" y="4711680"/>
            <a:ext cx="481680" cy="6991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3962520" y="16002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4320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0552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9051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0" name=""/>
          <p:cNvCxnSpPr>
            <a:stCxn id="736" idx="3"/>
            <a:endCxn id="738" idx="0"/>
          </p:cNvCxnSpPr>
          <p:nvPr/>
        </p:nvCxnSpPr>
        <p:spPr>
          <a:xfrm flipH="1">
            <a:off x="2285640" y="3504960"/>
            <a:ext cx="55800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41" name=""/>
          <p:cNvSpPr/>
          <p:nvPr/>
        </p:nvSpPr>
        <p:spPr>
          <a:xfrm>
            <a:off x="335268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2" name=""/>
          <p:cNvCxnSpPr>
            <a:stCxn id="736" idx="5"/>
            <a:endCxn id="741" idx="0"/>
          </p:cNvCxnSpPr>
          <p:nvPr/>
        </p:nvCxnSpPr>
        <p:spPr>
          <a:xfrm>
            <a:off x="3328560" y="3504960"/>
            <a:ext cx="40572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43" name=""/>
          <p:cNvCxnSpPr>
            <a:stCxn id="735" idx="3"/>
            <a:endCxn id="736" idx="0"/>
          </p:cNvCxnSpPr>
          <p:nvPr/>
        </p:nvCxnSpPr>
        <p:spPr>
          <a:xfrm flipH="1">
            <a:off x="3085560" y="213336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44" name=""/>
          <p:cNvCxnSpPr>
            <a:stCxn id="735" idx="5"/>
            <a:endCxn id="737" idx="0"/>
          </p:cNvCxnSpPr>
          <p:nvPr/>
        </p:nvCxnSpPr>
        <p:spPr>
          <a:xfrm>
            <a:off x="4548240" y="213336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45" name=""/>
          <p:cNvCxnSpPr>
            <a:stCxn id="741" idx="5"/>
            <a:endCxn id="741" idx="5"/>
          </p:cNvCxnSpPr>
          <p:nvPr/>
        </p:nvCxnSpPr>
        <p:spPr>
          <a:xfrm>
            <a:off x="3936600" y="449532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13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3434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8" name=""/>
          <p:cNvCxnSpPr>
            <a:stCxn id="747" idx="0"/>
            <a:endCxn id="737" idx="3"/>
          </p:cNvCxnSpPr>
          <p:nvPr/>
        </p:nvCxnSpPr>
        <p:spPr>
          <a:xfrm flipV="1">
            <a:off x="472428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49" name=""/>
          <p:cNvCxnSpPr>
            <a:stCxn id="737" idx="5"/>
            <a:endCxn id="746" idx="0"/>
          </p:cNvCxnSpPr>
          <p:nvPr/>
        </p:nvCxnSpPr>
        <p:spPr>
          <a:xfrm>
            <a:off x="569124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3962520" y="16002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743200" y="29718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105520" y="29718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9051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5" name=""/>
          <p:cNvCxnSpPr>
            <a:stCxn id="751" idx="3"/>
            <a:endCxn id="753" idx="0"/>
          </p:cNvCxnSpPr>
          <p:nvPr/>
        </p:nvCxnSpPr>
        <p:spPr>
          <a:xfrm flipH="1">
            <a:off x="2285640" y="3492000"/>
            <a:ext cx="55800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56" name=""/>
          <p:cNvSpPr/>
          <p:nvPr/>
        </p:nvSpPr>
        <p:spPr>
          <a:xfrm>
            <a:off x="335268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7" name=""/>
          <p:cNvCxnSpPr>
            <a:stCxn id="750" idx="5"/>
            <a:endCxn id="752" idx="0"/>
          </p:cNvCxnSpPr>
          <p:nvPr/>
        </p:nvCxnSpPr>
        <p:spPr>
          <a:xfrm>
            <a:off x="4548240" y="2120760"/>
            <a:ext cx="900720" cy="851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58" name=""/>
          <p:cNvCxnSpPr>
            <a:stCxn id="756" idx="5"/>
            <a:endCxn id="756" idx="5"/>
          </p:cNvCxnSpPr>
          <p:nvPr/>
        </p:nvCxnSpPr>
        <p:spPr>
          <a:xfrm>
            <a:off x="3924000" y="44953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59" name=""/>
          <p:cNvSpPr/>
          <p:nvPr/>
        </p:nvSpPr>
        <p:spPr>
          <a:xfrm>
            <a:off x="57913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3434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1" name=""/>
          <p:cNvCxnSpPr>
            <a:stCxn id="760" idx="0"/>
            <a:endCxn id="752" idx="3"/>
          </p:cNvCxnSpPr>
          <p:nvPr/>
        </p:nvCxnSpPr>
        <p:spPr>
          <a:xfrm flipV="1">
            <a:off x="4724280" y="3491640"/>
            <a:ext cx="48168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62" name=""/>
          <p:cNvCxnSpPr>
            <a:stCxn id="752" idx="5"/>
            <a:endCxn id="759" idx="0"/>
          </p:cNvCxnSpPr>
          <p:nvPr/>
        </p:nvCxnSpPr>
        <p:spPr>
          <a:xfrm>
            <a:off x="5691240" y="3492000"/>
            <a:ext cx="48168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0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230" dur="2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232" dur="2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234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236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238" dur="20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240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242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244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962520" y="29718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743200" y="29718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105520" y="43434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9051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191120" y="57913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8" name=""/>
          <p:cNvCxnSpPr>
            <a:stCxn id="764" idx="3"/>
            <a:endCxn id="766" idx="0"/>
          </p:cNvCxnSpPr>
          <p:nvPr/>
        </p:nvCxnSpPr>
        <p:spPr>
          <a:xfrm flipH="1">
            <a:off x="2285640" y="3492000"/>
            <a:ext cx="55800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335268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70" name=""/>
          <p:cNvCxnSpPr>
            <a:stCxn id="763" idx="5"/>
            <a:endCxn id="765" idx="0"/>
          </p:cNvCxnSpPr>
          <p:nvPr/>
        </p:nvCxnSpPr>
        <p:spPr>
          <a:xfrm>
            <a:off x="4548240" y="3492360"/>
            <a:ext cx="900720" cy="851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71" name=""/>
          <p:cNvCxnSpPr/>
          <p:nvPr/>
        </p:nvCxnSpPr>
        <p:spPr>
          <a:xfrm>
            <a:off x="3924000" y="58669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72" name=""/>
          <p:cNvSpPr/>
          <p:nvPr/>
        </p:nvSpPr>
        <p:spPr>
          <a:xfrm>
            <a:off x="5791320" y="5562720"/>
            <a:ext cx="76176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43400" y="5562720"/>
            <a:ext cx="76212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74" name=""/>
          <p:cNvCxnSpPr>
            <a:stCxn id="773" idx="0"/>
            <a:endCxn id="765" idx="3"/>
          </p:cNvCxnSpPr>
          <p:nvPr/>
        </p:nvCxnSpPr>
        <p:spPr>
          <a:xfrm flipV="1">
            <a:off x="4724280" y="4863240"/>
            <a:ext cx="48168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75" name=""/>
          <p:cNvCxnSpPr>
            <a:stCxn id="765" idx="5"/>
            <a:endCxn id="772" idx="0"/>
          </p:cNvCxnSpPr>
          <p:nvPr/>
        </p:nvCxnSpPr>
        <p:spPr>
          <a:xfrm>
            <a:off x="5691240" y="4863600"/>
            <a:ext cx="48168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757 E">
                                      <p:cBhvr>
                                        <p:cTn id="1250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757 E">
                                      <p:cBhvr>
                                        <p:cTn id="1252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757 E">
                                      <p:cBhvr>
                                        <p:cTn id="1254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962520" y="29718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752480"/>
            <a:ext cx="685800" cy="6098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105520" y="43434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05120" y="2971800"/>
            <a:ext cx="76176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191120" y="57913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1" name=""/>
          <p:cNvCxnSpPr>
            <a:stCxn id="777" idx="3"/>
            <a:endCxn id="779" idx="0"/>
          </p:cNvCxnSpPr>
          <p:nvPr/>
        </p:nvCxnSpPr>
        <p:spPr>
          <a:xfrm flipH="1">
            <a:off x="2285640" y="2273400"/>
            <a:ext cx="558000" cy="6991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82" name=""/>
          <p:cNvSpPr/>
          <p:nvPr/>
        </p:nvSpPr>
        <p:spPr>
          <a:xfrm>
            <a:off x="335268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3" name=""/>
          <p:cNvCxnSpPr>
            <a:stCxn id="776" idx="5"/>
            <a:endCxn id="778" idx="0"/>
          </p:cNvCxnSpPr>
          <p:nvPr/>
        </p:nvCxnSpPr>
        <p:spPr>
          <a:xfrm>
            <a:off x="4548240" y="3492360"/>
            <a:ext cx="900720" cy="851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84" name=""/>
          <p:cNvCxnSpPr/>
          <p:nvPr/>
        </p:nvCxnSpPr>
        <p:spPr>
          <a:xfrm>
            <a:off x="3924000" y="58669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5791320" y="5562720"/>
            <a:ext cx="76176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343400" y="5562720"/>
            <a:ext cx="76212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7" name=""/>
          <p:cNvCxnSpPr>
            <a:stCxn id="786" idx="0"/>
            <a:endCxn id="778" idx="3"/>
          </p:cNvCxnSpPr>
          <p:nvPr/>
        </p:nvCxnSpPr>
        <p:spPr>
          <a:xfrm flipV="1">
            <a:off x="4724280" y="4863240"/>
            <a:ext cx="48168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88" name=""/>
          <p:cNvCxnSpPr>
            <a:stCxn id="778" idx="5"/>
            <a:endCxn id="785" idx="0"/>
          </p:cNvCxnSpPr>
          <p:nvPr/>
        </p:nvCxnSpPr>
        <p:spPr>
          <a:xfrm>
            <a:off x="5691240" y="4863600"/>
            <a:ext cx="48168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89" name=""/>
          <p:cNvCxnSpPr>
            <a:stCxn id="777" idx="5"/>
            <a:endCxn id="776" idx="1"/>
          </p:cNvCxnSpPr>
          <p:nvPr/>
        </p:nvCxnSpPr>
        <p:spPr>
          <a:xfrm>
            <a:off x="3328560" y="2273040"/>
            <a:ext cx="734040" cy="7880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90" name=""/>
          <p:cNvCxnSpPr>
            <a:stCxn id="782" idx="0"/>
            <a:endCxn id="776" idx="3"/>
          </p:cNvCxnSpPr>
          <p:nvPr/>
        </p:nvCxnSpPr>
        <p:spPr>
          <a:xfrm flipV="1">
            <a:off x="3733920" y="3491640"/>
            <a:ext cx="32904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0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2" name=""/>
          <p:cNvSpPr/>
          <p:nvPr/>
        </p:nvSpPr>
        <p:spPr>
          <a:xfrm>
            <a:off x="3962520" y="16002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74320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10552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19112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"/>
          <p:cNvCxnSpPr>
            <a:stCxn id="793" idx="3"/>
            <a:endCxn id="795" idx="0"/>
          </p:cNvCxnSpPr>
          <p:nvPr/>
        </p:nvCxnSpPr>
        <p:spPr>
          <a:xfrm flipH="1">
            <a:off x="2285640" y="3504960"/>
            <a:ext cx="55800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98" name=""/>
          <p:cNvCxnSpPr>
            <a:stCxn id="792" idx="3"/>
            <a:endCxn id="793" idx="0"/>
          </p:cNvCxnSpPr>
          <p:nvPr/>
        </p:nvCxnSpPr>
        <p:spPr>
          <a:xfrm flipH="1">
            <a:off x="3085560" y="213336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99" name=""/>
          <p:cNvCxnSpPr>
            <a:stCxn id="792" idx="5"/>
            <a:endCxn id="794" idx="0"/>
          </p:cNvCxnSpPr>
          <p:nvPr/>
        </p:nvCxnSpPr>
        <p:spPr>
          <a:xfrm>
            <a:off x="4548240" y="213336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00" name=""/>
          <p:cNvCxnSpPr/>
          <p:nvPr/>
        </p:nvCxnSpPr>
        <p:spPr>
          <a:xfrm>
            <a:off x="4000320" y="449532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1" name=""/>
          <p:cNvSpPr/>
          <p:nvPr/>
        </p:nvSpPr>
        <p:spPr>
          <a:xfrm>
            <a:off x="57913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3434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3" name=""/>
          <p:cNvCxnSpPr>
            <a:stCxn id="802" idx="0"/>
            <a:endCxn id="794" idx="3"/>
          </p:cNvCxnSpPr>
          <p:nvPr/>
        </p:nvCxnSpPr>
        <p:spPr>
          <a:xfrm flipV="1">
            <a:off x="472428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04" name=""/>
          <p:cNvCxnSpPr>
            <a:stCxn id="794" idx="5"/>
            <a:endCxn id="801" idx="0"/>
          </p:cNvCxnSpPr>
          <p:nvPr/>
        </p:nvCxnSpPr>
        <p:spPr>
          <a:xfrm>
            <a:off x="569124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3429000" y="41911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793" idx="5"/>
            <a:endCxn id="805" idx="0"/>
          </p:cNvCxnSpPr>
          <p:nvPr/>
        </p:nvCxnSpPr>
        <p:spPr>
          <a:xfrm>
            <a:off x="3328560" y="3504960"/>
            <a:ext cx="4438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7" name=""/>
          <p:cNvSpPr/>
          <p:nvPr/>
        </p:nvSpPr>
        <p:spPr>
          <a:xfrm>
            <a:off x="2590920" y="54100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8" name=""/>
          <p:cNvCxnSpPr>
            <a:endCxn id="807" idx="0"/>
          </p:cNvCxnSpPr>
          <p:nvPr/>
        </p:nvCxnSpPr>
        <p:spPr>
          <a:xfrm flipH="1">
            <a:off x="2971440" y="4699080"/>
            <a:ext cx="558000" cy="699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4138560" y="54100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10" name=""/>
          <p:cNvCxnSpPr>
            <a:endCxn id="809" idx="0"/>
          </p:cNvCxnSpPr>
          <p:nvPr/>
        </p:nvCxnSpPr>
        <p:spPr>
          <a:xfrm>
            <a:off x="4038480" y="4699080"/>
            <a:ext cx="481680" cy="699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3962520" y="16002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74320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10552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9051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19112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16" name=""/>
          <p:cNvCxnSpPr>
            <a:stCxn id="812" idx="3"/>
            <a:endCxn id="814" idx="0"/>
          </p:cNvCxnSpPr>
          <p:nvPr/>
        </p:nvCxnSpPr>
        <p:spPr>
          <a:xfrm flipH="1">
            <a:off x="2285640" y="3504960"/>
            <a:ext cx="55800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7" name=""/>
          <p:cNvCxnSpPr>
            <a:stCxn id="811" idx="3"/>
            <a:endCxn id="812" idx="0"/>
          </p:cNvCxnSpPr>
          <p:nvPr/>
        </p:nvCxnSpPr>
        <p:spPr>
          <a:xfrm flipH="1">
            <a:off x="3085560" y="213336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8" name=""/>
          <p:cNvCxnSpPr>
            <a:stCxn id="811" idx="5"/>
            <a:endCxn id="813" idx="0"/>
          </p:cNvCxnSpPr>
          <p:nvPr/>
        </p:nvCxnSpPr>
        <p:spPr>
          <a:xfrm>
            <a:off x="4548240" y="213336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9" name=""/>
          <p:cNvCxnSpPr/>
          <p:nvPr/>
        </p:nvCxnSpPr>
        <p:spPr>
          <a:xfrm>
            <a:off x="4000320" y="449532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0" name=""/>
          <p:cNvSpPr/>
          <p:nvPr/>
        </p:nvSpPr>
        <p:spPr>
          <a:xfrm>
            <a:off x="57913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3434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2" name=""/>
          <p:cNvCxnSpPr>
            <a:stCxn id="821" idx="0"/>
            <a:endCxn id="813" idx="3"/>
          </p:cNvCxnSpPr>
          <p:nvPr/>
        </p:nvCxnSpPr>
        <p:spPr>
          <a:xfrm flipV="1">
            <a:off x="472428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3" name=""/>
          <p:cNvCxnSpPr>
            <a:stCxn id="813" idx="5"/>
            <a:endCxn id="820" idx="0"/>
          </p:cNvCxnSpPr>
          <p:nvPr/>
        </p:nvCxnSpPr>
        <p:spPr>
          <a:xfrm>
            <a:off x="569124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4" name=""/>
          <p:cNvSpPr/>
          <p:nvPr/>
        </p:nvSpPr>
        <p:spPr>
          <a:xfrm>
            <a:off x="3429000" y="41911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2" idx="5"/>
            <a:endCxn id="824" idx="0"/>
          </p:cNvCxnSpPr>
          <p:nvPr/>
        </p:nvCxnSpPr>
        <p:spPr>
          <a:xfrm>
            <a:off x="3328560" y="3504960"/>
            <a:ext cx="4438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6" name=""/>
          <p:cNvSpPr/>
          <p:nvPr/>
        </p:nvSpPr>
        <p:spPr>
          <a:xfrm>
            <a:off x="2590920" y="54100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7" name=""/>
          <p:cNvCxnSpPr>
            <a:endCxn id="826" idx="0"/>
          </p:cNvCxnSpPr>
          <p:nvPr/>
        </p:nvCxnSpPr>
        <p:spPr>
          <a:xfrm flipH="1">
            <a:off x="2971440" y="4699080"/>
            <a:ext cx="558000" cy="699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4138560" y="54100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9" name=""/>
          <p:cNvCxnSpPr>
            <a:endCxn id="828" idx="0"/>
          </p:cNvCxnSpPr>
          <p:nvPr/>
        </p:nvCxnSpPr>
        <p:spPr>
          <a:xfrm>
            <a:off x="4038480" y="4699080"/>
            <a:ext cx="481680" cy="699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4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1" name=""/>
          <p:cNvSpPr/>
          <p:nvPr/>
        </p:nvSpPr>
        <p:spPr>
          <a:xfrm>
            <a:off x="3962520" y="16002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74320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10552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9051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19112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6" name=""/>
          <p:cNvCxnSpPr>
            <a:stCxn id="832" idx="3"/>
            <a:endCxn id="834" idx="0"/>
          </p:cNvCxnSpPr>
          <p:nvPr/>
        </p:nvCxnSpPr>
        <p:spPr>
          <a:xfrm flipH="1">
            <a:off x="2285640" y="3504960"/>
            <a:ext cx="55800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37" name=""/>
          <p:cNvCxnSpPr>
            <a:stCxn id="831" idx="3"/>
            <a:endCxn id="832" idx="0"/>
          </p:cNvCxnSpPr>
          <p:nvPr/>
        </p:nvCxnSpPr>
        <p:spPr>
          <a:xfrm flipH="1">
            <a:off x="3085560" y="213336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38" name=""/>
          <p:cNvCxnSpPr>
            <a:stCxn id="831" idx="5"/>
            <a:endCxn id="833" idx="0"/>
          </p:cNvCxnSpPr>
          <p:nvPr/>
        </p:nvCxnSpPr>
        <p:spPr>
          <a:xfrm>
            <a:off x="4548240" y="213336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39" name=""/>
          <p:cNvCxnSpPr/>
          <p:nvPr/>
        </p:nvCxnSpPr>
        <p:spPr>
          <a:xfrm>
            <a:off x="4000320" y="449532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40" name=""/>
          <p:cNvSpPr/>
          <p:nvPr/>
        </p:nvSpPr>
        <p:spPr>
          <a:xfrm>
            <a:off x="57913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3434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2" name=""/>
          <p:cNvCxnSpPr>
            <a:stCxn id="841" idx="0"/>
            <a:endCxn id="833" idx="3"/>
          </p:cNvCxnSpPr>
          <p:nvPr/>
        </p:nvCxnSpPr>
        <p:spPr>
          <a:xfrm flipV="1">
            <a:off x="472428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43" name=""/>
          <p:cNvCxnSpPr>
            <a:stCxn id="833" idx="5"/>
            <a:endCxn id="840" idx="0"/>
          </p:cNvCxnSpPr>
          <p:nvPr/>
        </p:nvCxnSpPr>
        <p:spPr>
          <a:xfrm>
            <a:off x="569124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3429000" y="41911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90920" y="54100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138560" y="54100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7" name=""/>
          <p:cNvCxnSpPr>
            <a:endCxn id="846" idx="0"/>
          </p:cNvCxnSpPr>
          <p:nvPr/>
        </p:nvCxnSpPr>
        <p:spPr>
          <a:xfrm>
            <a:off x="4038480" y="4699080"/>
            <a:ext cx="481680" cy="699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333 0.17757 E">
                                      <p:cBhvr>
                                        <p:cTn id="1284" dur="2000" fill="hold"/>
                                        <p:tgtEl>
                                          <p:spTgt spid="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333 0.17757 E">
                                      <p:cBhvr>
                                        <p:cTn id="1286" dur="2000" fill="hold"/>
                                        <p:tgtEl>
                                          <p:spTgt spid="8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333 0.17757 E">
                                      <p:cBhvr>
                                        <p:cTn id="1288" dur="2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9" name=""/>
          <p:cNvSpPr/>
          <p:nvPr/>
        </p:nvSpPr>
        <p:spPr>
          <a:xfrm>
            <a:off x="3962520" y="16002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81080" y="41911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10552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54100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19112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4" name=""/>
          <p:cNvCxnSpPr>
            <a:stCxn id="850" idx="3"/>
            <a:endCxn id="852" idx="0"/>
          </p:cNvCxnSpPr>
          <p:nvPr/>
        </p:nvCxnSpPr>
        <p:spPr>
          <a:xfrm flipH="1">
            <a:off x="1523520" y="472428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55" name=""/>
          <p:cNvCxnSpPr/>
          <p:nvPr/>
        </p:nvCxnSpPr>
        <p:spPr>
          <a:xfrm flipH="1">
            <a:off x="3085560" y="214596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56" name=""/>
          <p:cNvCxnSpPr>
            <a:stCxn id="849" idx="5"/>
            <a:endCxn id="851" idx="0"/>
          </p:cNvCxnSpPr>
          <p:nvPr/>
        </p:nvCxnSpPr>
        <p:spPr>
          <a:xfrm>
            <a:off x="4548240" y="213336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57" name=""/>
          <p:cNvCxnSpPr/>
          <p:nvPr/>
        </p:nvCxnSpPr>
        <p:spPr>
          <a:xfrm>
            <a:off x="4000320" y="449532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58" name=""/>
          <p:cNvSpPr/>
          <p:nvPr/>
        </p:nvSpPr>
        <p:spPr>
          <a:xfrm>
            <a:off x="57913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434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60" name=""/>
          <p:cNvCxnSpPr>
            <a:stCxn id="859" idx="0"/>
            <a:endCxn id="851" idx="3"/>
          </p:cNvCxnSpPr>
          <p:nvPr/>
        </p:nvCxnSpPr>
        <p:spPr>
          <a:xfrm flipV="1">
            <a:off x="472428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61" name=""/>
          <p:cNvCxnSpPr>
            <a:stCxn id="851" idx="5"/>
            <a:endCxn id="858" idx="0"/>
          </p:cNvCxnSpPr>
          <p:nvPr/>
        </p:nvCxnSpPr>
        <p:spPr>
          <a:xfrm>
            <a:off x="569124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62" name=""/>
          <p:cNvSpPr/>
          <p:nvPr/>
        </p:nvSpPr>
        <p:spPr>
          <a:xfrm>
            <a:off x="3429000" y="41911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590920" y="54100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138560" y="54100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65" name=""/>
          <p:cNvCxnSpPr>
            <a:endCxn id="864" idx="0"/>
          </p:cNvCxnSpPr>
          <p:nvPr/>
        </p:nvCxnSpPr>
        <p:spPr>
          <a:xfrm>
            <a:off x="4038480" y="4699080"/>
            <a:ext cx="481680" cy="699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0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-0.17757 E">
                                      <p:cBhvr>
                                        <p:cTn id="1294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-0.17757 E">
                                      <p:cBhvr>
                                        <p:cTn id="1296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-0.17757 E">
                                      <p:cBhvr>
                                        <p:cTn id="1298" dur="2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49568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7" idx="3"/>
            <a:endCxn id="148" idx="0"/>
          </p:cNvCxnSpPr>
          <p:nvPr/>
        </p:nvCxnSpPr>
        <p:spPr>
          <a:xfrm flipH="1">
            <a:off x="2818800" y="3504960"/>
            <a:ext cx="55764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38862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6" idx="5"/>
            <a:endCxn id="152" idx="0"/>
          </p:cNvCxnSpPr>
          <p:nvPr/>
        </p:nvCxnSpPr>
        <p:spPr>
          <a:xfrm>
            <a:off x="5081760" y="3504960"/>
            <a:ext cx="9388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Right-Rot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43434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757 E">
                                      <p:cBhvr>
                                        <p:cTn id="125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757 E">
                                      <p:cBhvr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757 E">
                                      <p:cBhvr>
                                        <p:cTn id="129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7" name=""/>
          <p:cNvSpPr/>
          <p:nvPr/>
        </p:nvSpPr>
        <p:spPr>
          <a:xfrm>
            <a:off x="3962520" y="16002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981080" y="41911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10552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43000" y="54100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19112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2" name=""/>
          <p:cNvCxnSpPr>
            <a:stCxn id="868" idx="3"/>
            <a:endCxn id="870" idx="0"/>
          </p:cNvCxnSpPr>
          <p:nvPr/>
        </p:nvCxnSpPr>
        <p:spPr>
          <a:xfrm flipH="1">
            <a:off x="1523520" y="472428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73" name=""/>
          <p:cNvCxnSpPr/>
          <p:nvPr/>
        </p:nvCxnSpPr>
        <p:spPr>
          <a:xfrm flipH="1">
            <a:off x="3085560" y="214596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74" name=""/>
          <p:cNvCxnSpPr>
            <a:stCxn id="867" idx="5"/>
            <a:endCxn id="869" idx="0"/>
          </p:cNvCxnSpPr>
          <p:nvPr/>
        </p:nvCxnSpPr>
        <p:spPr>
          <a:xfrm>
            <a:off x="4548240" y="213336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75" name=""/>
          <p:cNvCxnSpPr/>
          <p:nvPr/>
        </p:nvCxnSpPr>
        <p:spPr>
          <a:xfrm>
            <a:off x="4000320" y="449532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76" name=""/>
          <p:cNvSpPr/>
          <p:nvPr/>
        </p:nvSpPr>
        <p:spPr>
          <a:xfrm>
            <a:off x="57913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3434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"/>
          <p:cNvCxnSpPr>
            <a:stCxn id="877" idx="0"/>
            <a:endCxn id="869" idx="3"/>
          </p:cNvCxnSpPr>
          <p:nvPr/>
        </p:nvCxnSpPr>
        <p:spPr>
          <a:xfrm flipV="1">
            <a:off x="472428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79" name=""/>
          <p:cNvCxnSpPr>
            <a:stCxn id="869" idx="5"/>
            <a:endCxn id="876" idx="0"/>
          </p:cNvCxnSpPr>
          <p:nvPr/>
        </p:nvCxnSpPr>
        <p:spPr>
          <a:xfrm>
            <a:off x="569124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80" name=""/>
          <p:cNvSpPr/>
          <p:nvPr/>
        </p:nvSpPr>
        <p:spPr>
          <a:xfrm>
            <a:off x="271944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590920" y="54100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4290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3" name=""/>
          <p:cNvCxnSpPr>
            <a:endCxn id="882" idx="0"/>
          </p:cNvCxnSpPr>
          <p:nvPr/>
        </p:nvCxnSpPr>
        <p:spPr>
          <a:xfrm>
            <a:off x="3328920" y="3479760"/>
            <a:ext cx="481680" cy="699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84" name=""/>
          <p:cNvCxnSpPr>
            <a:stCxn id="868" idx="0"/>
            <a:endCxn id="880" idx="3"/>
          </p:cNvCxnSpPr>
          <p:nvPr/>
        </p:nvCxnSpPr>
        <p:spPr>
          <a:xfrm flipV="1">
            <a:off x="2324160" y="3504960"/>
            <a:ext cx="4960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85" name=""/>
          <p:cNvCxnSpPr>
            <a:stCxn id="868" idx="5"/>
            <a:endCxn id="881" idx="0"/>
          </p:cNvCxnSpPr>
          <p:nvPr/>
        </p:nvCxnSpPr>
        <p:spPr>
          <a:xfrm>
            <a:off x="2567160" y="4724280"/>
            <a:ext cx="40536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7" name=""/>
          <p:cNvSpPr/>
          <p:nvPr/>
        </p:nvSpPr>
        <p:spPr>
          <a:xfrm>
            <a:off x="3962520" y="16002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981080" y="41911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10552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143000" y="54100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19112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2" name=""/>
          <p:cNvCxnSpPr>
            <a:stCxn id="888" idx="3"/>
            <a:endCxn id="890" idx="0"/>
          </p:cNvCxnSpPr>
          <p:nvPr/>
        </p:nvCxnSpPr>
        <p:spPr>
          <a:xfrm flipH="1">
            <a:off x="1523520" y="472428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93" name=""/>
          <p:cNvCxnSpPr/>
          <p:nvPr/>
        </p:nvCxnSpPr>
        <p:spPr>
          <a:xfrm flipH="1">
            <a:off x="3085560" y="214596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94" name=""/>
          <p:cNvCxnSpPr>
            <a:stCxn id="887" idx="5"/>
            <a:endCxn id="889" idx="0"/>
          </p:cNvCxnSpPr>
          <p:nvPr/>
        </p:nvCxnSpPr>
        <p:spPr>
          <a:xfrm>
            <a:off x="4548240" y="213336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95" name=""/>
          <p:cNvCxnSpPr/>
          <p:nvPr/>
        </p:nvCxnSpPr>
        <p:spPr>
          <a:xfrm>
            <a:off x="4000320" y="449532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96" name=""/>
          <p:cNvSpPr/>
          <p:nvPr/>
        </p:nvSpPr>
        <p:spPr>
          <a:xfrm>
            <a:off x="57913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3434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8" name=""/>
          <p:cNvCxnSpPr>
            <a:stCxn id="897" idx="0"/>
            <a:endCxn id="889" idx="3"/>
          </p:cNvCxnSpPr>
          <p:nvPr/>
        </p:nvCxnSpPr>
        <p:spPr>
          <a:xfrm flipV="1">
            <a:off x="472428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99" name=""/>
          <p:cNvCxnSpPr>
            <a:stCxn id="889" idx="5"/>
            <a:endCxn id="896" idx="0"/>
          </p:cNvCxnSpPr>
          <p:nvPr/>
        </p:nvCxnSpPr>
        <p:spPr>
          <a:xfrm>
            <a:off x="569124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271944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590920" y="54100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4290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3" name=""/>
          <p:cNvCxnSpPr>
            <a:endCxn id="902" idx="0"/>
          </p:cNvCxnSpPr>
          <p:nvPr/>
        </p:nvCxnSpPr>
        <p:spPr>
          <a:xfrm>
            <a:off x="3328920" y="3479760"/>
            <a:ext cx="481680" cy="699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04" name=""/>
          <p:cNvCxnSpPr>
            <a:stCxn id="888" idx="0"/>
            <a:endCxn id="900" idx="3"/>
          </p:cNvCxnSpPr>
          <p:nvPr/>
        </p:nvCxnSpPr>
        <p:spPr>
          <a:xfrm flipV="1">
            <a:off x="2324160" y="3504960"/>
            <a:ext cx="4960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05" name=""/>
          <p:cNvCxnSpPr>
            <a:stCxn id="888" idx="5"/>
            <a:endCxn id="901" idx="0"/>
          </p:cNvCxnSpPr>
          <p:nvPr/>
        </p:nvCxnSpPr>
        <p:spPr>
          <a:xfrm>
            <a:off x="2567160" y="4724280"/>
            <a:ext cx="40536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7" name=""/>
          <p:cNvSpPr/>
          <p:nvPr/>
        </p:nvSpPr>
        <p:spPr>
          <a:xfrm>
            <a:off x="3962520" y="16002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981080" y="41911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10552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143000" y="54100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12" name=""/>
          <p:cNvCxnSpPr>
            <a:stCxn id="908" idx="3"/>
            <a:endCxn id="910" idx="0"/>
          </p:cNvCxnSpPr>
          <p:nvPr/>
        </p:nvCxnSpPr>
        <p:spPr>
          <a:xfrm flipH="1">
            <a:off x="1523520" y="472428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13" name=""/>
          <p:cNvCxnSpPr>
            <a:stCxn id="907" idx="5"/>
            <a:endCxn id="909" idx="0"/>
          </p:cNvCxnSpPr>
          <p:nvPr/>
        </p:nvCxnSpPr>
        <p:spPr>
          <a:xfrm>
            <a:off x="4548240" y="213336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14" name=""/>
          <p:cNvCxnSpPr/>
          <p:nvPr/>
        </p:nvCxnSpPr>
        <p:spPr>
          <a:xfrm>
            <a:off x="4000320" y="449532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57913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3434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17" name=""/>
          <p:cNvCxnSpPr>
            <a:stCxn id="916" idx="0"/>
            <a:endCxn id="909" idx="3"/>
          </p:cNvCxnSpPr>
          <p:nvPr/>
        </p:nvCxnSpPr>
        <p:spPr>
          <a:xfrm flipV="1">
            <a:off x="472428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18" name=""/>
          <p:cNvCxnSpPr>
            <a:stCxn id="909" idx="5"/>
            <a:endCxn id="915" idx="0"/>
          </p:cNvCxnSpPr>
          <p:nvPr/>
        </p:nvCxnSpPr>
        <p:spPr>
          <a:xfrm>
            <a:off x="5691240" y="3504960"/>
            <a:ext cx="4816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919" name=""/>
          <p:cNvSpPr/>
          <p:nvPr/>
        </p:nvSpPr>
        <p:spPr>
          <a:xfrm>
            <a:off x="271944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90920" y="54100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4290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2" name=""/>
          <p:cNvCxnSpPr>
            <a:stCxn id="908" idx="0"/>
            <a:endCxn id="919" idx="3"/>
          </p:cNvCxnSpPr>
          <p:nvPr/>
        </p:nvCxnSpPr>
        <p:spPr>
          <a:xfrm flipV="1">
            <a:off x="2324160" y="3504960"/>
            <a:ext cx="4960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23" name=""/>
          <p:cNvCxnSpPr>
            <a:stCxn id="908" idx="5"/>
            <a:endCxn id="920" idx="0"/>
          </p:cNvCxnSpPr>
          <p:nvPr/>
        </p:nvCxnSpPr>
        <p:spPr>
          <a:xfrm>
            <a:off x="2567160" y="4724280"/>
            <a:ext cx="40536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1328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1330" dur="20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1332" dur="20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1334" dur="2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1336" dur="20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1338" dur="20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1340" dur="2000" fill="hold"/>
                                        <p:tgtEl>
                                          <p:spTgt spid="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1342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333 0.17757 E">
                                      <p:cBhvr>
                                        <p:cTn id="1344" dur="2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5" name=""/>
          <p:cNvSpPr/>
          <p:nvPr/>
        </p:nvSpPr>
        <p:spPr>
          <a:xfrm>
            <a:off x="4267080" y="28195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981080" y="41911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410080" y="41911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143000" y="54100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26708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0" name=""/>
          <p:cNvCxnSpPr>
            <a:stCxn id="926" idx="3"/>
            <a:endCxn id="928" idx="0"/>
          </p:cNvCxnSpPr>
          <p:nvPr/>
        </p:nvCxnSpPr>
        <p:spPr>
          <a:xfrm flipH="1">
            <a:off x="1523520" y="4724280"/>
            <a:ext cx="55800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31" name=""/>
          <p:cNvCxnSpPr>
            <a:stCxn id="925" idx="5"/>
            <a:endCxn id="927" idx="0"/>
          </p:cNvCxnSpPr>
          <p:nvPr/>
        </p:nvCxnSpPr>
        <p:spPr>
          <a:xfrm>
            <a:off x="4853160" y="335232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32" name=""/>
          <p:cNvCxnSpPr/>
          <p:nvPr/>
        </p:nvCxnSpPr>
        <p:spPr>
          <a:xfrm>
            <a:off x="4076280" y="449532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933" name=""/>
          <p:cNvSpPr/>
          <p:nvPr/>
        </p:nvSpPr>
        <p:spPr>
          <a:xfrm>
            <a:off x="6095880" y="54100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648320" y="54100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5" name=""/>
          <p:cNvCxnSpPr>
            <a:stCxn id="934" idx="0"/>
            <a:endCxn id="927" idx="3"/>
          </p:cNvCxnSpPr>
          <p:nvPr/>
        </p:nvCxnSpPr>
        <p:spPr>
          <a:xfrm flipV="1">
            <a:off x="5029200" y="472392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36" name=""/>
          <p:cNvCxnSpPr>
            <a:stCxn id="927" idx="5"/>
            <a:endCxn id="933" idx="0"/>
          </p:cNvCxnSpPr>
          <p:nvPr/>
        </p:nvCxnSpPr>
        <p:spPr>
          <a:xfrm>
            <a:off x="5996160" y="472428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271944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590920" y="54100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4290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0" name=""/>
          <p:cNvCxnSpPr>
            <a:stCxn id="926" idx="0"/>
            <a:endCxn id="937" idx="3"/>
          </p:cNvCxnSpPr>
          <p:nvPr/>
        </p:nvCxnSpPr>
        <p:spPr>
          <a:xfrm flipV="1">
            <a:off x="2324160" y="3504960"/>
            <a:ext cx="49608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41" name=""/>
          <p:cNvCxnSpPr>
            <a:stCxn id="926" idx="5"/>
            <a:endCxn id="938" idx="0"/>
          </p:cNvCxnSpPr>
          <p:nvPr/>
        </p:nvCxnSpPr>
        <p:spPr>
          <a:xfrm>
            <a:off x="2567160" y="4724280"/>
            <a:ext cx="40536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34 -0.17757 E">
                                      <p:cBhvr>
                                        <p:cTn id="1350" dur="2000" fill="hold"/>
                                        <p:tgtEl>
                                          <p:spTgt spid="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34 -0.17757 E">
                                      <p:cBhvr>
                                        <p:cTn id="1352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34 -0.17757 E">
                                      <p:cBhvr>
                                        <p:cTn id="1354" dur="2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34 -0.17757 E">
                                      <p:cBhvr>
                                        <p:cTn id="1356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34 -0.17757 E">
                                      <p:cBhvr>
                                        <p:cTn id="1358" dur="2000" fill="hold"/>
                                        <p:tgtEl>
                                          <p:spTgt spid="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34 -0.17757 E">
                                      <p:cBhvr>
                                        <p:cTn id="1360" dur="2000" fill="hold"/>
                                        <p:tgtEl>
                                          <p:spTgt spid="9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34 -0.17757 E">
                                      <p:cBhvr>
                                        <p:cTn id="1362" dur="2000" fill="hold"/>
                                        <p:tgtEl>
                                          <p:spTgt spid="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3" name=""/>
          <p:cNvSpPr/>
          <p:nvPr/>
        </p:nvSpPr>
        <p:spPr>
          <a:xfrm>
            <a:off x="4267080" y="28195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90512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41911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06668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26708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8" name=""/>
          <p:cNvCxnSpPr>
            <a:stCxn id="944" idx="3"/>
            <a:endCxn id="946" idx="0"/>
          </p:cNvCxnSpPr>
          <p:nvPr/>
        </p:nvCxnSpPr>
        <p:spPr>
          <a:xfrm flipH="1">
            <a:off x="1447200" y="3504960"/>
            <a:ext cx="55764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49" name=""/>
          <p:cNvCxnSpPr>
            <a:stCxn id="943" idx="5"/>
            <a:endCxn id="945" idx="0"/>
          </p:cNvCxnSpPr>
          <p:nvPr/>
        </p:nvCxnSpPr>
        <p:spPr>
          <a:xfrm>
            <a:off x="4853160" y="335232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50" name=""/>
          <p:cNvCxnSpPr/>
          <p:nvPr/>
        </p:nvCxnSpPr>
        <p:spPr>
          <a:xfrm>
            <a:off x="4076280" y="449532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6095880" y="54100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648320" y="54100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3" name=""/>
          <p:cNvCxnSpPr>
            <a:stCxn id="952" idx="0"/>
            <a:endCxn id="945" idx="3"/>
          </p:cNvCxnSpPr>
          <p:nvPr/>
        </p:nvCxnSpPr>
        <p:spPr>
          <a:xfrm flipV="1">
            <a:off x="5029200" y="472392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54" name=""/>
          <p:cNvCxnSpPr>
            <a:stCxn id="945" idx="5"/>
            <a:endCxn id="951" idx="0"/>
          </p:cNvCxnSpPr>
          <p:nvPr/>
        </p:nvCxnSpPr>
        <p:spPr>
          <a:xfrm>
            <a:off x="5996160" y="472428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955" name=""/>
          <p:cNvSpPr/>
          <p:nvPr/>
        </p:nvSpPr>
        <p:spPr>
          <a:xfrm>
            <a:off x="2643120" y="17524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146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4290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8" name=""/>
          <p:cNvCxnSpPr>
            <a:stCxn id="944" idx="0"/>
            <a:endCxn id="955" idx="3"/>
          </p:cNvCxnSpPr>
          <p:nvPr/>
        </p:nvCxnSpPr>
        <p:spPr>
          <a:xfrm flipV="1">
            <a:off x="2247840" y="2285640"/>
            <a:ext cx="4960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59" name=""/>
          <p:cNvCxnSpPr>
            <a:stCxn id="944" idx="5"/>
            <a:endCxn id="956" idx="0"/>
          </p:cNvCxnSpPr>
          <p:nvPr/>
        </p:nvCxnSpPr>
        <p:spPr>
          <a:xfrm>
            <a:off x="2490840" y="3504960"/>
            <a:ext cx="40536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60" name=""/>
          <p:cNvCxnSpPr>
            <a:stCxn id="955" idx="5"/>
            <a:endCxn id="943" idx="1"/>
          </p:cNvCxnSpPr>
          <p:nvPr/>
        </p:nvCxnSpPr>
        <p:spPr>
          <a:xfrm>
            <a:off x="3228840" y="2285640"/>
            <a:ext cx="1139040" cy="610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61" name=""/>
          <p:cNvCxnSpPr>
            <a:stCxn id="957" idx="0"/>
            <a:endCxn id="943" idx="3"/>
          </p:cNvCxnSpPr>
          <p:nvPr/>
        </p:nvCxnSpPr>
        <p:spPr>
          <a:xfrm flipV="1">
            <a:off x="3809880" y="3351960"/>
            <a:ext cx="55800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"/>
          <p:cNvSpPr/>
          <p:nvPr/>
        </p:nvSpPr>
        <p:spPr>
          <a:xfrm>
            <a:off x="6553080" y="28195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19112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696080" y="419112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35268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55308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9" name=""/>
          <p:cNvCxnSpPr>
            <a:stCxn id="965" idx="3"/>
            <a:endCxn id="967" idx="0"/>
          </p:cNvCxnSpPr>
          <p:nvPr/>
        </p:nvCxnSpPr>
        <p:spPr>
          <a:xfrm flipH="1">
            <a:off x="3733200" y="3504960"/>
            <a:ext cx="55764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70" name=""/>
          <p:cNvCxnSpPr>
            <a:stCxn id="964" idx="5"/>
            <a:endCxn id="966" idx="0"/>
          </p:cNvCxnSpPr>
          <p:nvPr/>
        </p:nvCxnSpPr>
        <p:spPr>
          <a:xfrm>
            <a:off x="7139160" y="335232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71" name=""/>
          <p:cNvCxnSpPr/>
          <p:nvPr/>
        </p:nvCxnSpPr>
        <p:spPr>
          <a:xfrm>
            <a:off x="6362280" y="449532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8381880" y="5410080"/>
            <a:ext cx="76212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934320" y="5410080"/>
            <a:ext cx="761760" cy="609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74" name=""/>
          <p:cNvCxnSpPr>
            <a:stCxn id="973" idx="0"/>
            <a:endCxn id="966" idx="3"/>
          </p:cNvCxnSpPr>
          <p:nvPr/>
        </p:nvCxnSpPr>
        <p:spPr>
          <a:xfrm flipV="1">
            <a:off x="7315200" y="472392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75" name=""/>
          <p:cNvCxnSpPr>
            <a:stCxn id="966" idx="5"/>
            <a:endCxn id="972" idx="0"/>
          </p:cNvCxnSpPr>
          <p:nvPr/>
        </p:nvCxnSpPr>
        <p:spPr>
          <a:xfrm>
            <a:off x="8282160" y="4724280"/>
            <a:ext cx="4816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976" name=""/>
          <p:cNvSpPr/>
          <p:nvPr/>
        </p:nvSpPr>
        <p:spPr>
          <a:xfrm>
            <a:off x="4929120" y="17524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8006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7150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79" name=""/>
          <p:cNvCxnSpPr>
            <a:stCxn id="965" idx="0"/>
            <a:endCxn id="976" idx="3"/>
          </p:cNvCxnSpPr>
          <p:nvPr/>
        </p:nvCxnSpPr>
        <p:spPr>
          <a:xfrm flipV="1">
            <a:off x="4533840" y="2285640"/>
            <a:ext cx="49608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80" name=""/>
          <p:cNvCxnSpPr>
            <a:stCxn id="965" idx="5"/>
            <a:endCxn id="977" idx="0"/>
          </p:cNvCxnSpPr>
          <p:nvPr/>
        </p:nvCxnSpPr>
        <p:spPr>
          <a:xfrm>
            <a:off x="4776840" y="3504960"/>
            <a:ext cx="40536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81" name=""/>
          <p:cNvCxnSpPr>
            <a:stCxn id="976" idx="5"/>
            <a:endCxn id="964" idx="1"/>
          </p:cNvCxnSpPr>
          <p:nvPr/>
        </p:nvCxnSpPr>
        <p:spPr>
          <a:xfrm>
            <a:off x="5514840" y="2285640"/>
            <a:ext cx="1139040" cy="610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982" name=""/>
          <p:cNvCxnSpPr>
            <a:stCxn id="978" idx="0"/>
            <a:endCxn id="964" idx="3"/>
          </p:cNvCxnSpPr>
          <p:nvPr/>
        </p:nvCxnSpPr>
        <p:spPr>
          <a:xfrm flipV="1">
            <a:off x="6095880" y="3351960"/>
            <a:ext cx="55800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0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 flipH="1">
            <a:off x="1828800" y="1219320"/>
            <a:ext cx="1295280" cy="1371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514600" y="1828800"/>
            <a:ext cx="1371600" cy="8380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1828800" y="2209680"/>
            <a:ext cx="1295280" cy="1371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514600" y="2819520"/>
            <a:ext cx="1371600" cy="8380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1828800" y="3200400"/>
            <a:ext cx="1295280" cy="1371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514600" y="3809880"/>
            <a:ext cx="1371600" cy="83844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828800" y="4191120"/>
            <a:ext cx="1295280" cy="1371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514600" y="4800600"/>
            <a:ext cx="1371600" cy="8380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1828800" y="5181480"/>
            <a:ext cx="1295280" cy="1371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514600" y="5791320"/>
            <a:ext cx="1371600" cy="8380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1828800" y="228600"/>
            <a:ext cx="1295280" cy="1371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14600" y="838080"/>
            <a:ext cx="1371600" cy="83844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117760" y="228600"/>
            <a:ext cx="278064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SBT V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3962520" y="16002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74320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10552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9051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2" name=""/>
          <p:cNvCxnSpPr>
            <a:stCxn id="999" idx="3"/>
            <a:endCxn id="1001" idx="0"/>
          </p:cNvCxnSpPr>
          <p:nvPr/>
        </p:nvCxnSpPr>
        <p:spPr>
          <a:xfrm flipH="1">
            <a:off x="2285640" y="3504960"/>
            <a:ext cx="55800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335268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4" name=""/>
          <p:cNvCxnSpPr>
            <a:stCxn id="999" idx="5"/>
            <a:endCxn id="1003" idx="0"/>
          </p:cNvCxnSpPr>
          <p:nvPr/>
        </p:nvCxnSpPr>
        <p:spPr>
          <a:xfrm>
            <a:off x="3328560" y="3504960"/>
            <a:ext cx="40572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005" name=""/>
          <p:cNvCxnSpPr>
            <a:stCxn id="998" idx="3"/>
            <a:endCxn id="999" idx="0"/>
          </p:cNvCxnSpPr>
          <p:nvPr/>
        </p:nvCxnSpPr>
        <p:spPr>
          <a:xfrm flipH="1">
            <a:off x="3085560" y="2133360"/>
            <a:ext cx="9766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006" name=""/>
          <p:cNvCxnSpPr>
            <a:stCxn id="998" idx="5"/>
            <a:endCxn id="1000" idx="0"/>
          </p:cNvCxnSpPr>
          <p:nvPr/>
        </p:nvCxnSpPr>
        <p:spPr>
          <a:xfrm>
            <a:off x="4548240" y="2133360"/>
            <a:ext cx="90072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007" name=""/>
          <p:cNvCxnSpPr>
            <a:stCxn id="1003" idx="5"/>
            <a:endCxn id="1003" idx="5"/>
          </p:cNvCxnSpPr>
          <p:nvPr/>
        </p:nvCxnSpPr>
        <p:spPr>
          <a:xfrm>
            <a:off x="3936600" y="4495320"/>
            <a:ext cx="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3962520" y="16002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743200" y="29718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105520" y="29718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905120" y="4191120"/>
            <a:ext cx="76176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191120" y="4419720"/>
            <a:ext cx="685800" cy="68580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"/>
          <p:cNvCxnSpPr>
            <a:stCxn id="1009" idx="3"/>
            <a:endCxn id="1011" idx="0"/>
          </p:cNvCxnSpPr>
          <p:nvPr/>
        </p:nvCxnSpPr>
        <p:spPr>
          <a:xfrm flipH="1">
            <a:off x="2285640" y="3492000"/>
            <a:ext cx="55800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14" name=""/>
          <p:cNvSpPr/>
          <p:nvPr/>
        </p:nvSpPr>
        <p:spPr>
          <a:xfrm>
            <a:off x="335268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5" name=""/>
          <p:cNvCxnSpPr>
            <a:stCxn id="1008" idx="5"/>
            <a:endCxn id="1010" idx="0"/>
          </p:cNvCxnSpPr>
          <p:nvPr/>
        </p:nvCxnSpPr>
        <p:spPr>
          <a:xfrm>
            <a:off x="4548240" y="2120760"/>
            <a:ext cx="900720" cy="851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16" name=""/>
          <p:cNvCxnSpPr>
            <a:stCxn id="1014" idx="5"/>
            <a:endCxn id="1014" idx="5"/>
          </p:cNvCxnSpPr>
          <p:nvPr/>
        </p:nvCxnSpPr>
        <p:spPr>
          <a:xfrm>
            <a:off x="3924000" y="44953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398" dur="2000" fill="hold"/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400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402" dur="2000" fill="hold"/>
                                        <p:tgtEl>
                                          <p:spTgt spid="10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9977 E">
                                      <p:cBhvr>
                                        <p:cTn id="1404" dur="2000" fill="hold"/>
                                        <p:tgtEl>
                                          <p:spTgt spid="10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Right-Rot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2971800"/>
            <a:ext cx="685800" cy="60948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752480"/>
            <a:ext cx="685800" cy="609840"/>
          </a:xfrm>
          <a:prstGeom prst="ellipse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29718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7" idx="3"/>
            <a:endCxn id="158" idx="0"/>
          </p:cNvCxnSpPr>
          <p:nvPr/>
        </p:nvCxnSpPr>
        <p:spPr>
          <a:xfrm flipH="1">
            <a:off x="2818800" y="2286000"/>
            <a:ext cx="557640" cy="6739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388620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6" idx="5"/>
            <a:endCxn id="162" idx="0"/>
          </p:cNvCxnSpPr>
          <p:nvPr/>
        </p:nvCxnSpPr>
        <p:spPr>
          <a:xfrm>
            <a:off x="5081760" y="3504960"/>
            <a:ext cx="938880" cy="826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63" name=""/>
          <p:cNvCxnSpPr>
            <a:stCxn id="157" idx="5"/>
            <a:endCxn id="156" idx="1"/>
          </p:cNvCxnSpPr>
          <p:nvPr/>
        </p:nvCxnSpPr>
        <p:spPr>
          <a:xfrm>
            <a:off x="3862080" y="2285640"/>
            <a:ext cx="734040" cy="7628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64" name=""/>
          <p:cNvCxnSpPr>
            <a:stCxn id="160" idx="0"/>
            <a:endCxn id="156" idx="3"/>
          </p:cNvCxnSpPr>
          <p:nvPr/>
        </p:nvCxnSpPr>
        <p:spPr>
          <a:xfrm flipV="1">
            <a:off x="4266720" y="3504960"/>
            <a:ext cx="329040" cy="6732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4343400"/>
            <a:ext cx="76212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3962520" y="29718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743200" y="1752480"/>
            <a:ext cx="685800" cy="6098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105520" y="4343400"/>
            <a:ext cx="685800" cy="6094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905120" y="2971800"/>
            <a:ext cx="76176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21" name=""/>
          <p:cNvCxnSpPr>
            <a:stCxn id="1018" idx="3"/>
            <a:endCxn id="1020" idx="0"/>
          </p:cNvCxnSpPr>
          <p:nvPr/>
        </p:nvCxnSpPr>
        <p:spPr>
          <a:xfrm flipH="1">
            <a:off x="2285640" y="2273400"/>
            <a:ext cx="558000" cy="6991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352680" y="4191120"/>
            <a:ext cx="76212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23" name=""/>
          <p:cNvCxnSpPr>
            <a:stCxn id="1017" idx="5"/>
            <a:endCxn id="1019" idx="0"/>
          </p:cNvCxnSpPr>
          <p:nvPr/>
        </p:nvCxnSpPr>
        <p:spPr>
          <a:xfrm>
            <a:off x="4548240" y="3492360"/>
            <a:ext cx="900720" cy="851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24" name=""/>
          <p:cNvCxnSpPr>
            <a:stCxn id="1018" idx="5"/>
            <a:endCxn id="1017" idx="1"/>
          </p:cNvCxnSpPr>
          <p:nvPr/>
        </p:nvCxnSpPr>
        <p:spPr>
          <a:xfrm>
            <a:off x="3328560" y="2273040"/>
            <a:ext cx="734040" cy="7880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25" name=""/>
          <p:cNvCxnSpPr>
            <a:stCxn id="1022" idx="0"/>
            <a:endCxn id="1017" idx="3"/>
          </p:cNvCxnSpPr>
          <p:nvPr/>
        </p:nvCxnSpPr>
        <p:spPr>
          <a:xfrm flipV="1">
            <a:off x="3733920" y="3491640"/>
            <a:ext cx="329040" cy="699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0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1-25T05:08:05Z</dcterms:modified>
  <cp:revision>3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